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4CF-6FA8-43FD-991A-248FA6BC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03D-F7C0-43D6-8BEC-E2ECB255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29B-A9C4-4BB9-ABBD-909D441D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B65-519B-4B0C-925E-6AA15137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DBAF-D44D-4EF7-B890-3F8FDC2A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46BC-052F-427C-8EC7-A8AFB34C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DF6D-9FD1-4A4E-B942-5DDD481B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D6BC-BE7E-41C1-B317-88706B7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B3EF-7304-46BF-A9CF-B7E51BEC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DC82-A8AC-466E-90FC-8CE1FE66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6720-6A5A-4A51-BFED-74F1FEE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AD9-2F88-4367-B09F-7D87A5E7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D390-F1B9-4A91-B751-27D4683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DEAD-0986-48AB-9086-8904370B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0C69-E16E-4BAB-A104-285F4E08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5354-77A2-457E-A61A-19531F66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F3F8-BC24-4EC6-A49E-27BF3F34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CBB-4D4C-4E0E-8A85-02AD673D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E44-517F-4E60-BE47-C4463AF4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167-5122-4AB3-A309-A0E702BA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EBC-6788-45E1-AE04-4FB81824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CBC-F5E9-4785-A095-9ECED050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CE7-5A7B-4CCF-A1CE-4905391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D97-6D59-415C-BE62-8590394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7FC2-81A7-4DF6-AE91-0D0AB6923EF0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A4DD-57B0-4DC6-A86A-5910E61BB6FD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1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Что такое «здоровое питание»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 рассчитать свои энерготраты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ова калорийность продуктов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ие изменения в диете нужны при  артериальной гипертонии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 ограничить поваренную соль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 поступать с жирами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 обогатить рацион витаминами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 быть при повышенном уровне холестерина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66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ак правильно составить меню при артериальной   гипертонии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1905120" cy="1473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22860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Занятие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Tahoma"/>
              </a:rPr>
              <a:t>Что надо знать о</a:t>
            </a: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6062f"/>
                </a:solidFill>
                <a:latin typeface="Tahoma"/>
              </a:rPr>
              <a:t>  питании при артериальной гипертонии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Для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 ограничения поваренной соли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Вам   </a:t>
            </a:r>
            <a:r>
              <a:rPr b="1" lang="en-US" sz="3600" spc="-1" strike="noStrike">
                <a:solidFill>
                  <a:srgbClr val="c8044a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320" y="1523880"/>
            <a:ext cx="8001000" cy="464832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огранич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ить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сол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ь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, используем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ую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при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приготовлении пищи,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или  солить пищу после того, как из общей кастрюли (или другой ёмкости) взята порция больног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с артериальной гипертонией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избавиться от привычки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досаливать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пищу за столом, не пробуя её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отказаться от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солений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, маринадов, продуктов консервирования и копчен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С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держание калия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мг) в 100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г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родукта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(суточная норма потребления  2500–5000  мг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80880" y="1143000"/>
            <a:ext cx="8762760" cy="5334120"/>
            <a:chOff x="380880" y="1143000"/>
            <a:chExt cx="8762760" cy="5334120"/>
          </a:xfrm>
        </p:grpSpPr>
        <p:grpSp>
          <p:nvGrpSpPr>
            <p:cNvPr id="243" name=""/>
            <p:cNvGrpSpPr/>
            <p:nvPr/>
          </p:nvGrpSpPr>
          <p:grpSpPr>
            <a:xfrm>
              <a:off x="387000" y="1145880"/>
              <a:ext cx="8749440" cy="5327640"/>
              <a:chOff x="387000" y="1145880"/>
              <a:chExt cx="8749440" cy="53276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387000" y="1145880"/>
                <a:ext cx="3815640" cy="643680"/>
                <a:chOff x="387000" y="1145880"/>
                <a:chExt cx="3815640" cy="6436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78800" y="1145880"/>
                  <a:ext cx="3632400" cy="64368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Количество калия,  мг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87000" y="1145880"/>
                  <a:ext cx="3815640" cy="64368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203000" y="1145880"/>
                <a:ext cx="4933440" cy="643680"/>
                <a:chOff x="4203000" y="1145880"/>
                <a:chExt cx="4933440" cy="6436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294800" y="1145880"/>
                  <a:ext cx="4749840" cy="64368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Пищевые продукты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203000" y="1145880"/>
                  <a:ext cx="4933440" cy="64368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87000" y="1789560"/>
                <a:ext cx="3815640" cy="819360"/>
                <a:chOff x="387000" y="1789560"/>
                <a:chExt cx="3815640" cy="8193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78800" y="1789560"/>
                  <a:ext cx="3632400" cy="81936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Очень большое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(более  </a:t>
                  </a:r>
                  <a:r>
                    <a:rPr b="1" lang="ru-RU" sz="24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500</a:t>
                  </a:r>
                  <a:r>
                    <a:rPr b="1" lang="ru-RU" sz="2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87000" y="1789560"/>
                  <a:ext cx="3815640" cy="81936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203000" y="1789560"/>
                <a:ext cx="4933440" cy="819360"/>
                <a:chOff x="4203000" y="1789560"/>
                <a:chExt cx="4933440" cy="819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294800" y="1789560"/>
                  <a:ext cx="4749840" cy="81936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Морская капуста, урюк, фасоль, чернослив, изюм 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203000" y="1789560"/>
                  <a:ext cx="4933440" cy="81936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87000" y="2609280"/>
                <a:ext cx="3815640" cy="1522440"/>
                <a:chOff x="387000" y="2609280"/>
                <a:chExt cx="3815640" cy="15224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78800" y="2609280"/>
                  <a:ext cx="3632400" cy="152244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Большое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(251–400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7000" y="2609280"/>
                  <a:ext cx="3815640" cy="152244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203000" y="2609280"/>
                <a:ext cx="4933440" cy="1522440"/>
                <a:chOff x="4203000" y="2609280"/>
                <a:chExt cx="4933440" cy="15224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294800" y="2609280"/>
                  <a:ext cx="4749840" cy="152244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Говядина, свинина, треска, хек, скумбрия, кальмары, овсян</a:t>
                  </a:r>
                  <a:r>
                    <a:rPr b="1" lang="ru-RU" sz="2000" spc="-1" strike="noStrike">
                      <a:solidFill>
                        <a:srgbClr val="40458c"/>
                      </a:solidFill>
                      <a:latin typeface="Arial"/>
                    </a:rPr>
                    <a:t>ка</a:t>
                  </a:r>
                  <a:r>
                    <a:rPr b="1" lang="ru-RU" sz="2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, горошек, томаты, свёкла, редис, лук, смородина, виноград, абрикосы, персики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203000" y="2609280"/>
                  <a:ext cx="4933440" cy="152244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87000" y="4131720"/>
                <a:ext cx="3815640" cy="1170720"/>
                <a:chOff x="387000" y="4131720"/>
                <a:chExt cx="3815640" cy="1170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78800" y="4131720"/>
                  <a:ext cx="3632400" cy="117072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Умеренное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(150–250)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7000" y="4131720"/>
                  <a:ext cx="3815640" cy="117072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4203000" y="4131720"/>
                <a:ext cx="4933440" cy="1170720"/>
                <a:chOff x="4203000" y="4131720"/>
                <a:chExt cx="4933440" cy="1170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294800" y="4131720"/>
                  <a:ext cx="4749840" cy="117072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Куры, судак, пшено, гречка, хлеб из муки 2-го сорта, морковь, капуста, кабачки, тыква, клубника, груша, сливы, апельсин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203000" y="4131720"/>
                  <a:ext cx="4933440" cy="117072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87000" y="5302800"/>
                <a:ext cx="3815640" cy="1170720"/>
                <a:chOff x="387000" y="5302800"/>
                <a:chExt cx="3815640" cy="1170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78800" y="5302800"/>
                  <a:ext cx="3632400" cy="117072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Малое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(менее  150)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87000" y="5302800"/>
                  <a:ext cx="3815640" cy="117072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4203000" y="5302800"/>
                <a:ext cx="4933440" cy="1170720"/>
                <a:chOff x="4203000" y="5302800"/>
                <a:chExt cx="4933440" cy="1170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294800" y="5302800"/>
                  <a:ext cx="4749840" cy="117072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Молоко, творог, сметана, сыр, крупа манная, рис, макароны, белый хлеб, огурцы, арбуз, брусника, клюква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203000" y="5302800"/>
                  <a:ext cx="4933440" cy="1170720"/>
                </a:xfrm>
                <a:prstGeom prst="rect">
                  <a:avLst/>
                </a:prstGeom>
                <a:noFill/>
                <a:ln w="284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4" name=""/>
            <p:cNvSpPr/>
            <p:nvPr/>
          </p:nvSpPr>
          <p:spPr>
            <a:xfrm>
              <a:off x="380880" y="1143000"/>
              <a:ext cx="8762760" cy="5334120"/>
            </a:xfrm>
            <a:prstGeom prst="rect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600" spc="-1" strike="noStrike">
                <a:solidFill>
                  <a:srgbClr val="c8044a"/>
                </a:solidFill>
                <a:latin typeface="Tahoma"/>
              </a:rPr>
              <a:t>Запомните! </a:t>
            </a:r>
            <a:br>
              <a:rPr sz="3600"/>
            </a:br>
            <a:r>
              <a:rPr b="1" i="1" lang="en-US" sz="3600" spc="-1" strike="noStrike">
                <a:solidFill>
                  <a:srgbClr val="c8044a"/>
                </a:solidFill>
                <a:latin typeface="Tahoma"/>
              </a:rPr>
              <a:t>О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СНОВНЫЕ   ТРЕБОВАНИЯ  К  ПОСТРОЕНИЮ  РАЦИОНА   ПИТАНИЯ ПРИ ГИПЕРТОНИИ: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Снижение калорийности рацио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Ограничение поваренной сол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Ограничение животных жиров и холестери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Повышение содержания фосфолипид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величение омега</a:t>
            </a:r>
            <a:r>
              <a:rPr b="1" lang="ru-RU" sz="24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-жирных кислот из рыб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Больше витаминов  РР, С,  Р, В</a:t>
            </a:r>
            <a:r>
              <a:rPr b="1" lang="ru-RU" sz="2400" spc="-1" strike="noStrike" baseline="-25000">
                <a:solidFill>
                  <a:srgbClr val="40458c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, 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Обогащение  пищи солями калия, магния  и кальц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величение в диете пищевых волоко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Включение в меню продуктов мор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904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Какие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онкретные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изменения нужн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ести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в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Вашу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диет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при повышенном АД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93200" y="1828800"/>
            <a:ext cx="86504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Исключить  острые блюда и приправы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солен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ья, маринад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Изменить кулинарную обработ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Ограничить поваренн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ю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сол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ь.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Ограничить общее количество свободной жид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Увеличить потребление продуктов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с высоким содержанием калия, магн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Какие изменения нужн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ести в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Вашу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диет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при повышенном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Д?</a:t>
            </a:r>
            <a:br>
              <a:rPr sz="2800"/>
            </a:br>
            <a:r>
              <a:rPr b="0" i="1" lang="en-US" sz="2800" spc="-1" strike="noStrike">
                <a:solidFill>
                  <a:srgbClr val="660066"/>
                </a:solidFill>
                <a:latin typeface="Tahoma"/>
              </a:rPr>
              <a:t>(продолжение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792468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Употреблять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в большом количестве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овощи и фрукт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Употреблять много свёклы, клюквы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Ограничить животные жиры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избыточной массе тела сни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зить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суточн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ю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калорийност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до 1800–1200  ккал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/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су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Что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екомендуется, если у Вас повышен уровень холестерин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440" y="1334880"/>
            <a:ext cx="8763120" cy="55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Не более двух яичных желтков в неделю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е есть субпродуктов, икры, кревето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Исключить потребление всех видов жирного мяса, колбас, окороков, сливочного и топлёного мас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оджаривание на животных жирах заменить тушением, варкой, приготовлением на пару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в духовк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Отдать предпочтение рыбным блюдам, продуктам мор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Использовать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обезжиренны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сорта молочных продукт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Ест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ь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больше овощей, фрукто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248520" y="4884840"/>
          <a:ext cx="243180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884840"/>
                    <a:ext cx="243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66294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Выбор</a:t>
            </a: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риоритетов  за Вами!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66760" y="1800360"/>
          <a:ext cx="8515440" cy="55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800360"/>
                    <a:ext cx="8515440" cy="55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781680" y="0"/>
          <a:ext cx="23623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0"/>
                    <a:ext cx="23623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286000" y="244440"/>
          <a:ext cx="45720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44440"/>
                    <a:ext cx="45720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484360" y="434880"/>
          <a:ext cx="447984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34880"/>
                    <a:ext cx="447984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624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c6062f"/>
                </a:solidFill>
                <a:latin typeface="Arial"/>
              </a:rPr>
              <a:t>Запомните! </a:t>
            </a:r>
            <a:br>
              <a:rPr sz="2800"/>
            </a:br>
            <a:r>
              <a:rPr b="1" i="1" lang="en-US" sz="2800" spc="-1" strike="noStrike">
                <a:solidFill>
                  <a:srgbClr val="c6062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Питание человека, как здорового так и больного, должно быть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020080" cy="35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1)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энергетически сбалансированным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2)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полноценным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3)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регулярным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4)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с оптимальной кулинарной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обработко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5)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с р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азумным потреблением алкоголя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676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  <a:ea typeface="Arial"/>
              </a:rPr>
              <a:t>Энерготраты  </a:t>
            </a:r>
            <a:br>
              <a:rPr sz="32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(для человека среднего возраста весом  60 кг)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95360" y="1523880"/>
            <a:ext cx="8152920" cy="4648320"/>
            <a:chOff x="495360" y="1523880"/>
            <a:chExt cx="8152920" cy="4648320"/>
          </a:xfrm>
        </p:grpSpPr>
        <p:grpSp>
          <p:nvGrpSpPr>
            <p:cNvPr id="219" name=""/>
            <p:cNvGrpSpPr/>
            <p:nvPr/>
          </p:nvGrpSpPr>
          <p:grpSpPr>
            <a:xfrm>
              <a:off x="500760" y="1526760"/>
              <a:ext cx="8140680" cy="4641840"/>
              <a:chOff x="500760" y="1526760"/>
              <a:chExt cx="8140680" cy="46418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500760" y="1526760"/>
                <a:ext cx="4407120" cy="4641840"/>
                <a:chOff x="500760" y="1526760"/>
                <a:chExt cx="4407120" cy="46418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581400" y="1526760"/>
                  <a:ext cx="4246200" cy="4641840"/>
                </a:xfrm>
                <a:prstGeom prst="rect">
                  <a:avLst/>
                </a:prstGeom>
                <a:noFill/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40458c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Сон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Отдых л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ё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жа без сна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Чтение вслух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Делопроизводство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Работа в лаборатории сидя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Домашняя работа </a:t>
                  </a:r>
                  <a:r>
                    <a:rPr b="1" lang="en-US" sz="16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(мыть</a:t>
                  </a:r>
                  <a:r>
                    <a:rPr b="1" lang="ru-RU" sz="16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ё</a:t>
                  </a:r>
                  <a:r>
                    <a:rPr b="1" lang="en-US" sz="16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ru-RU" sz="1600" spc="-1" strike="noStrike">
                      <a:solidFill>
                        <a:srgbClr val="660066"/>
                      </a:solidFill>
                      <a:latin typeface="Arial"/>
                    </a:rPr>
                    <a:t>        </a:t>
                  </a:r>
                  <a:r>
                    <a:rPr b="1" lang="en-US" sz="16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посуды, глажение, уборка)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Работа в лаборатории стоя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Спокойная ходьба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Быстрая ходьба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Бег «трусцой»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Ходьба на лыжах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Плавание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  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Езда на велосипеде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00760" y="1526760"/>
                  <a:ext cx="4407120" cy="4641840"/>
                </a:xfrm>
                <a:prstGeom prst="rect">
                  <a:avLst/>
                </a:prstGeom>
                <a:noFill/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908240" y="1526760"/>
                <a:ext cx="3733200" cy="4641840"/>
                <a:chOff x="4908240" y="1526760"/>
                <a:chExt cx="3733200" cy="46418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988880" y="1526760"/>
                  <a:ext cx="3572280" cy="4641840"/>
                </a:xfrm>
                <a:prstGeom prst="rect">
                  <a:avLst/>
                </a:prstGeom>
                <a:noFill/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6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9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10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–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19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20–24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60–17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90–30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3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00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–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3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36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42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180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–40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210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–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54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08240" y="1526760"/>
                  <a:ext cx="3733200" cy="4641840"/>
                </a:xfrm>
                <a:prstGeom prst="rect">
                  <a:avLst/>
                </a:prstGeom>
                <a:noFill/>
                <a:ln w="572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495360" y="1523880"/>
              <a:ext cx="8152920" cy="4648320"/>
            </a:xfrm>
            <a:prstGeom prst="rect">
              <a:avLst/>
            </a:prstGeom>
            <a:noFill/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3382920" y="4267080"/>
          <a:ext cx="11890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2920" y="4267080"/>
                    <a:ext cx="11890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6062f"/>
                </a:solidFill>
                <a:latin typeface="Arial"/>
              </a:rPr>
              <a:t>Пример!</a:t>
            </a:r>
            <a:br>
              <a:rPr sz="2400"/>
            </a:b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Есть возможность рассчитать свои энерготраты на основе приведённого ниже примера.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4120" cy="502920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58c"/>
                </a:solidFill>
                <a:latin typeface="Arial"/>
              </a:rPr>
              <a:t>Ж</a:t>
            </a:r>
            <a:r>
              <a:rPr b="1" i="1" lang="ru-RU" sz="1400" spc="-1" strike="noStrike">
                <a:solidFill>
                  <a:srgbClr val="40458c"/>
                </a:solidFill>
                <a:latin typeface="Arial"/>
                <a:ea typeface="Arial"/>
              </a:rPr>
              <a:t>енщина 56 лет, врач</a:t>
            </a:r>
            <a:r>
              <a:rPr b="0" i="1" lang="ru-RU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Сон —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8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ч  </a:t>
            </a:r>
            <a:r>
              <a:rPr b="1" lang="ru-RU" sz="18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  50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ккал =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400</a:t>
            </a:r>
            <a:r>
              <a:rPr b="1" lang="ru-RU" sz="18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ккал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Работа в  кабинете —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8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ч </a:t>
            </a:r>
            <a:r>
              <a:rPr b="1" lang="ru-RU" sz="18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110 ккал =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880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ккал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Домашние дела — 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4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ч </a:t>
            </a:r>
            <a:r>
              <a:rPr b="1" lang="ru-RU" sz="18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100 ккал =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400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ккал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Отдых (телевизор, чтение книг) —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ч </a:t>
            </a:r>
            <a:r>
              <a:rPr b="1" lang="ru-RU" sz="18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65 ккал =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130</a:t>
            </a:r>
            <a:r>
              <a:rPr b="1" lang="ru-RU" sz="18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ккал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Медленная ходьба (дорога на работу, магазины) —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2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ч </a:t>
            </a:r>
            <a:r>
              <a:rPr b="1" lang="ru-RU" sz="1800" spc="-1" strike="noStrike">
                <a:solidFill>
                  <a:srgbClr val="40458c"/>
                </a:solidFill>
                <a:latin typeface="Symbol"/>
                <a:ea typeface="Symbol"/>
              </a:rPr>
              <a:t>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 190 ккал =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380</a:t>
            </a:r>
            <a:r>
              <a:rPr b="1" lang="ru-RU" sz="1800" spc="-1" strike="noStrike">
                <a:solidFill>
                  <a:srgbClr val="6f89f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ккал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В сумме 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2190 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ккал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для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</a:rPr>
              <a:t>  женщины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 – 10% 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</a:rPr>
              <a:t>= 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2000 ккал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ещё 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20% за возраст —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2000 – 400 = 1600 ккал.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Arial"/>
              </a:rPr>
              <a:t>Т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аким образом, энерготраты 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равны  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1600</a:t>
            </a:r>
            <a:r>
              <a:rPr b="1" i="1" lang="ru-RU" sz="1800" spc="-1" strike="noStrike">
                <a:solidFill>
                  <a:srgbClr val="6f89f7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40458c"/>
                </a:solidFill>
                <a:latin typeface="Arial"/>
                <a:ea typeface="Arial"/>
              </a:rPr>
              <a:t>ккал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162920" y="644400"/>
          <a:ext cx="198108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44400"/>
                    <a:ext cx="19810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062f"/>
                </a:solidFill>
                <a:latin typeface="Arial"/>
              </a:rPr>
              <a:t>Запомните!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Обеспечивают полноценность питания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3772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-433080" algn="just">
              <a:lnSpc>
                <a:spcPct val="100000"/>
              </a:lnSpc>
              <a:spcBef>
                <a:spcPts val="700"/>
              </a:spcBef>
              <a:buSzPct val="1080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разнообразие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рациона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433080" algn="just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достаточное количество белка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433080" algn="just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оптимальное соотношение животного и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раст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тельного жира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433080" algn="just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замена мяса рыбой, бобовыми, птицей;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433080" algn="just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ограничение «видимого жира»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433080" algn="just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ограничение простых сахаров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433080" algn="just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больше фруктов, овощей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200" indent="-433080" algn="just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ограничение поваренной со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990720" y="914400"/>
          <a:ext cx="7315200" cy="57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7315200" cy="57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ри артериальной гипертонии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диета направлена на: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нормализаци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ю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массы тел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снижение уровня липидов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коррекци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ю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во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д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но-солевого обмена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электролитных нарушений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улучшение функционального состоян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почек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укрепление стенок сосудов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улучшение деятельности сердечной мышц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профилактик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 нарушений углеводного об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02:47Z</dcterms:created>
  <dc:creator>User</dc:creator>
  <dc:description/>
  <dc:language>en-US</dc:language>
  <cp:lastModifiedBy>Сергей</cp:lastModifiedBy>
  <dcterms:modified xsi:type="dcterms:W3CDTF">2011-02-25T05:10:54Z</dcterms:modified>
  <cp:revision>76</cp:revision>
  <dc:subject/>
  <dc:title>Презентация PowerPoint</dc:title>
</cp:coreProperties>
</file>