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95AB-B4EB-4E8C-8BAF-22185398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71E-8329-4A2A-8E08-F55D9C59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EC6-0709-4100-AD5E-84017B57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79C-87AF-4963-9266-FE062156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6342-1986-4137-83B1-AA8531B2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3547-139A-45C5-B668-19F46C2A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08AC-06FF-4B02-B0F5-6C2B68BF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9AB9-AC00-426A-ADC6-0F56AF6A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9AD2-6859-466D-8738-D2B6D1D1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1CE0-E2DD-4FC8-9A4C-373F6894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59B6-23FC-46B0-B634-89224C43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9A4-F09C-4DBD-80D8-3718737E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9684-8CD7-4C0F-9458-E3F84EF1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AD94-5580-4C7C-B71F-79CE00BA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F18B-168A-4E22-997C-3C5EAD81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34F9-10D5-4877-96CA-C8D51B3B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5025-6D7B-413F-B5CA-B8509FA9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A78-C32B-403C-B37D-06A519DB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062-7187-471F-9FA0-C7B368D5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973-AC20-43A4-8083-A9A4340A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A77-9EF3-47EC-B286-2E9FEDEC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302-73A5-4079-B0E2-4E5EE712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8C5-CBC8-4125-B3B8-D18106FF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773-C4EF-4982-92BD-809ECCC2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8DDE-07CC-42A0-91C9-9BEA8437E71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B38C-9959-4E0E-86DF-3F16521284F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4876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523880"/>
            <a:ext cx="88390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 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Что такое артериальное давление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Что такое артериальная гипертония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сложнения течения заболевания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гипертонический криз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транзиторная ишемическая атака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Факторы риска артериальной гипертонии и прогноз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Как оценить  индивидуальные факторы риска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Как правильно измерять артериальное давление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Как вести дневник пациента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310824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761040" y="304920"/>
            <a:ext cx="76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Занятие 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Что надо знать об артериальной гипертонии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Times New Roman"/>
              </a:rPr>
              <a:t>Транзиторная ишемическая атака (ТИА) </a:t>
            </a:r>
            <a:r>
              <a:rPr b="1" lang="en-US" sz="2400" spc="-1" strike="noStrike">
                <a:solidFill>
                  <a:srgbClr val="c6062f"/>
                </a:solidFill>
                <a:latin typeface="Times New Roman"/>
                <a:ea typeface="Tahoma"/>
              </a:rPr>
              <a:t>—</a:t>
            </a:r>
            <a:r>
              <a:rPr b="1" lang="en-US" sz="2400" spc="-1" strike="noStrike">
                <a:solidFill>
                  <a:srgbClr val="c6062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c6062f"/>
                </a:solidFill>
                <a:latin typeface="Times New Roman"/>
              </a:rPr>
              <a:t>преходящее нарушение мозгового кровообращения!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62040" y="1600200"/>
            <a:ext cx="6019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062f"/>
                </a:solidFill>
                <a:latin typeface="Tahoma"/>
              </a:rPr>
              <a:t>Надо знать основные симптомы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062f"/>
                </a:solidFill>
                <a:latin typeface="Tahoma"/>
              </a:rPr>
              <a:t>которые могут быть проявлением ТИА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756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 algn="just">
              <a:lnSpc>
                <a:spcPct val="70000"/>
              </a:lnSpc>
              <a:spcBef>
                <a:spcPts val="4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онемени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или слабост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ь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мышц лица, рук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756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особенно на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одной стороне тела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);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756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 algn="just">
              <a:lnSpc>
                <a:spcPct val="7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спутанност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ь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сознания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 algn="just">
              <a:lnSpc>
                <a:spcPct val="7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внезапные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нарушени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я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 algn="just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речи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 algn="just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зрения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на один или оба глаза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),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 algn="just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imes New Roman"/>
              </a:rPr>
              <a:t>п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оходки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 координации, равновесия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756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 algn="just">
              <a:lnSpc>
                <a:spcPct val="7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головокружение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 algn="just">
              <a:lnSpc>
                <a:spcPct val="70000"/>
              </a:lnSpc>
              <a:spcBef>
                <a:spcPts val="499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сильн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ая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головн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ая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бол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ь.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64440" y="6172200"/>
            <a:ext cx="90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062f"/>
                </a:solidFill>
                <a:latin typeface="Arial"/>
              </a:rPr>
              <a:t>При появлении симптомов ТИА безотлагательно обратитесь в врачу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609480" y="914400"/>
          <a:ext cx="78487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8487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684360" y="1197000"/>
          <a:ext cx="754380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97000"/>
                    <a:ext cx="75438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124080" y="228600"/>
            <a:ext cx="561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Times New Roman"/>
              </a:rPr>
              <a:t>Четыре шага к успеху по маршруту оздоровления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6062f"/>
                </a:solidFill>
                <a:latin typeface="Times New Roman"/>
              </a:rPr>
              <a:t>Проанализируйте 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1676160" cy="1166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80880" y="1612800"/>
            <a:ext cx="853452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6f89f7"/>
              </a:buClr>
              <a:buSzPct val="11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Что является именно для Вас фактором риска повышения артериального давления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6f89f7"/>
              </a:buClr>
              <a:buSzPct val="11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Какие из этих факторов, </a:t>
            </a:r>
            <a:r>
              <a:rPr b="1" i="1" lang="ru-RU" sz="1800" spc="-1" strike="noStrike">
                <a:solidFill>
                  <a:srgbClr val="c6062f"/>
                </a:solidFill>
                <a:latin typeface="Tahoma"/>
              </a:rPr>
              <a:t>по Вашему мнению, именно для Вас</a:t>
            </a: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, наиболее важны, какие менее важны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6f89f7"/>
              </a:buClr>
              <a:buSzPct val="11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Какие из этих факторов </a:t>
            </a:r>
            <a:r>
              <a:rPr b="1" i="1" lang="ru-RU" sz="1800" spc="-1" strike="noStrike">
                <a:solidFill>
                  <a:srgbClr val="c6062f"/>
                </a:solidFill>
                <a:latin typeface="Tahoma"/>
              </a:rPr>
              <a:t>Вам</a:t>
            </a: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 трудно изменить, какие изменить легко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6f89f7"/>
              </a:buClr>
              <a:buSzPct val="11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Составьте план оздоровления по следующим приоритетам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062f"/>
                </a:solidFill>
                <a:latin typeface="Tahoma"/>
              </a:rPr>
              <a:t>Первый шаг.  Очень важно для меня и могу легко самостоятельно изменить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062f"/>
                </a:solidFill>
                <a:latin typeface="Tahoma"/>
              </a:rPr>
              <a:t>Второй шаг.  Менее важно для меня, могу легко изменить!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062f"/>
                </a:solidFill>
                <a:latin typeface="Tahoma"/>
              </a:rPr>
              <a:t>Третий шаг.  Очень важно для меня, но изменить нелегко!!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062f"/>
                </a:solidFill>
                <a:latin typeface="Tahoma"/>
              </a:rPr>
              <a:t>Четвёртый шаг.  Менее важно для меня, изменить нелегко!!!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6062f"/>
                </a:solidFill>
                <a:latin typeface="Tahoma"/>
              </a:rPr>
              <a:t>Определите сроки выполнения каждого шага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062f"/>
                </a:solidFill>
                <a:latin typeface="Times New Roman"/>
              </a:rPr>
              <a:t>Составьте план и запишите в таблицу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09480" y="1523880"/>
          <a:ext cx="7315200" cy="41022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</a:tblGrid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По моему мнению, очень важно для  моего здоровья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По моему мнению, не очень важно  для моего здоровья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Это я могу изменить, и мне это сделать нетрудно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6062f"/>
                          </a:solidFill>
                          <a:latin typeface="Tahoma"/>
                        </a:rPr>
                        <a:t>1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6062f"/>
                          </a:solidFill>
                          <a:latin typeface="Tahoma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6062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6062f"/>
                          </a:solidFill>
                          <a:latin typeface="Tahoma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4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Это мне трудно изменить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6062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6062f"/>
                          </a:solidFill>
                          <a:latin typeface="Tahoma"/>
                        </a:rPr>
                        <a:t>……</a:t>
                      </a:r>
                      <a:r>
                        <a:rPr b="0" lang="en-US" sz="2000" spc="-1" strike="noStrike">
                          <a:solidFill>
                            <a:srgbClr val="c6062f"/>
                          </a:solidFill>
                          <a:latin typeface="Tahoma"/>
                        </a:rPr>
                        <a:t>..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6062f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6062f"/>
                          </a:solidFill>
                          <a:latin typeface="Tahoma"/>
                        </a:rPr>
                        <a:t>……</a:t>
                      </a:r>
                      <a:r>
                        <a:rPr b="0" lang="en-US" sz="2000" spc="-1" strike="noStrike">
                          <a:solidFill>
                            <a:srgbClr val="c6062f"/>
                          </a:solidFill>
                          <a:latin typeface="Tahoma"/>
                        </a:rPr>
                        <a:t>.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694080" y="5784840"/>
            <a:ext cx="60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062f"/>
                </a:solidFill>
                <a:latin typeface="Times New Roman"/>
              </a:rPr>
              <a:t>Индивидуальный план действий:   </a:t>
            </a:r>
            <a:r>
              <a:rPr b="0" lang="en-US" sz="2400" spc="-1" strike="noStrike">
                <a:solidFill>
                  <a:srgbClr val="c6062f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6062f"/>
                </a:solidFill>
                <a:latin typeface="Times New Roman"/>
                <a:ea typeface="Tahoma"/>
              </a:rPr>
              <a:t>—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6062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c6062f"/>
                </a:solidFill>
                <a:latin typeface="Times New Roman"/>
              </a:rPr>
              <a:t>—</a:t>
            </a:r>
            <a:r>
              <a:rPr b="0" lang="en-US" sz="2400" spc="-1" strike="noStrike">
                <a:solidFill>
                  <a:srgbClr val="c6062f"/>
                </a:solidFill>
                <a:latin typeface="Times New Roman"/>
              </a:rPr>
              <a:t> 3 </a:t>
            </a:r>
            <a:r>
              <a:rPr b="1" lang="en-US" sz="2400" spc="-1" strike="noStrike">
                <a:solidFill>
                  <a:srgbClr val="c6062f"/>
                </a:solidFill>
                <a:latin typeface="Times New Roman"/>
              </a:rPr>
              <a:t>—</a:t>
            </a:r>
            <a:r>
              <a:rPr b="0" lang="en-US" sz="2400" spc="-1" strike="noStrike">
                <a:solidFill>
                  <a:srgbClr val="c6062f"/>
                </a:solidFill>
                <a:latin typeface="Times New Roman"/>
              </a:rPr>
              <a:t> 4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8954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6062f"/>
                </a:solidFill>
                <a:latin typeface="Arial"/>
                <a:ea typeface="Arial"/>
              </a:rPr>
              <a:t>«Секрет успеха»</a:t>
            </a:r>
            <a:r>
              <a:rPr b="1" lang="en-US" sz="2800" spc="-1" strike="noStrike">
                <a:solidFill>
                  <a:srgbClr val="c6062f"/>
                </a:solidFill>
                <a:latin typeface="Arial"/>
                <a:ea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ставьте реальные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а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не глобальные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задач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, 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планируйте для себя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«поощрение»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 (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вознаграждение, похвалу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)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за достигнутые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езультаты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 (победы над вредными для здоровья привычками!)</a:t>
            </a:r>
            <a:br>
              <a:rPr sz="28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4191120" cy="1600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657600" y="373392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Организаторы школы здоровья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желают Вам попутного ветра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на пути к оздоровлению, профилактике осложнений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и к победе над болезнью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609480" y="1523880"/>
            <a:ext cx="8229240" cy="4876560"/>
            <a:chOff x="609480" y="1523880"/>
            <a:chExt cx="8229240" cy="4876560"/>
          </a:xfrm>
        </p:grpSpPr>
        <p:grpSp>
          <p:nvGrpSpPr>
            <p:cNvPr id="213" name=""/>
            <p:cNvGrpSpPr/>
            <p:nvPr/>
          </p:nvGrpSpPr>
          <p:grpSpPr>
            <a:xfrm>
              <a:off x="615240" y="1529280"/>
              <a:ext cx="8215920" cy="4863960"/>
              <a:chOff x="615240" y="1529280"/>
              <a:chExt cx="8215920" cy="486396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15240" y="1529280"/>
                <a:ext cx="3669480" cy="949320"/>
                <a:chOff x="615240" y="1529280"/>
                <a:chExt cx="3669480" cy="9493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04160" y="1529280"/>
                  <a:ext cx="3491280" cy="94932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0458c"/>
                      </a:solidFill>
                      <a:latin typeface="Arial"/>
                      <a:ea typeface="Times New Roman"/>
                    </a:rPr>
                    <a:t>Артериальное давление</a:t>
                  </a:r>
                  <a:r>
                    <a:rPr b="1" lang="en-US" sz="16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5240" y="1529280"/>
                  <a:ext cx="3669480" cy="94932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285080" y="1529280"/>
                <a:ext cx="2171520" cy="949320"/>
                <a:chOff x="4285080" y="1529280"/>
                <a:chExt cx="2171520" cy="9493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373640" y="1529280"/>
                  <a:ext cx="1993680" cy="94932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40458c"/>
                      </a:solidFill>
                      <a:latin typeface="Times New Roman"/>
                      <a:ea typeface="Arial"/>
                    </a:rPr>
                    <a:t>Систолическое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40458c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1" lang="ru-RU" sz="1800" spc="-1" strike="noStrike">
                      <a:solidFill>
                        <a:srgbClr val="40458c"/>
                      </a:solidFill>
                      <a:latin typeface="Times New Roman"/>
                      <a:ea typeface="Arial"/>
                    </a:rPr>
                    <a:t>АД, </a:t>
                  </a:r>
                  <a:r>
                    <a:rPr b="1" lang="ru-RU" sz="1800" spc="-1" strike="noStrike">
                      <a:solidFill>
                        <a:srgbClr val="40458c"/>
                      </a:solidFill>
                      <a:latin typeface="Times New Roman"/>
                    </a:rPr>
                    <a:t>мм рт.ст.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285080" y="1529280"/>
                  <a:ext cx="2171520" cy="94932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456960" y="1529280"/>
                <a:ext cx="2374200" cy="949320"/>
                <a:chOff x="6456960" y="1529280"/>
                <a:chExt cx="2374200" cy="9493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545880" y="1529280"/>
                  <a:ext cx="2196360" cy="94932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40458c"/>
                      </a:solidFill>
                      <a:latin typeface="Arial"/>
                      <a:ea typeface="Times New Roman"/>
                    </a:rPr>
                    <a:t>Диастолическое АД, </a:t>
                  </a:r>
                  <a:r>
                    <a:rPr b="1" lang="ru-RU" sz="1800" spc="-1" strike="noStrike">
                      <a:solidFill>
                        <a:srgbClr val="40458c"/>
                      </a:solidFill>
                      <a:latin typeface="Arial"/>
                    </a:rPr>
                    <a:t>мм рт.ст.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456960" y="1529280"/>
                  <a:ext cx="2374200" cy="94932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615240" y="2478960"/>
                <a:ext cx="3669480" cy="783000"/>
                <a:chOff x="615240" y="2478960"/>
                <a:chExt cx="3669480" cy="7830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04160" y="2478960"/>
                  <a:ext cx="3491280" cy="78300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0458c"/>
                      </a:solidFill>
                      <a:latin typeface="Arial"/>
                      <a:ea typeface="Times New Roman"/>
                    </a:rPr>
                    <a:t>Нормальное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15240" y="2478960"/>
                  <a:ext cx="3669480" cy="78300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285080" y="2478960"/>
                <a:ext cx="2171520" cy="783000"/>
                <a:chOff x="4285080" y="2478960"/>
                <a:chExt cx="2171520" cy="7830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373640" y="2478960"/>
                  <a:ext cx="1993680" cy="78300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&lt;13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285080" y="2478960"/>
                  <a:ext cx="2171520" cy="78300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6456960" y="2478960"/>
                <a:ext cx="2374200" cy="783000"/>
                <a:chOff x="6456960" y="2478960"/>
                <a:chExt cx="2374200" cy="7830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545880" y="2478960"/>
                  <a:ext cx="2196360" cy="78300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&lt;85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456960" y="2478960"/>
                  <a:ext cx="2374200" cy="78300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615240" y="3262320"/>
                <a:ext cx="3669480" cy="782280"/>
                <a:chOff x="615240" y="3262320"/>
                <a:chExt cx="3669480" cy="7822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4160" y="3262320"/>
                  <a:ext cx="3491280" cy="78228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0458c"/>
                      </a:solidFill>
                      <a:latin typeface="Arial"/>
                      <a:ea typeface="Times New Roman"/>
                    </a:rPr>
                    <a:t>Высокое нормальное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15240" y="3262320"/>
                  <a:ext cx="3669480" cy="78228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285080" y="3262320"/>
                <a:ext cx="2171520" cy="782280"/>
                <a:chOff x="4285080" y="3262320"/>
                <a:chExt cx="2171520" cy="7822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373640" y="3262320"/>
                  <a:ext cx="1993680" cy="78228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30</a:t>
                  </a:r>
                  <a:r>
                    <a:rPr b="0" lang="en-US" sz="2400" spc="-1" strike="noStrike">
                      <a:solidFill>
                        <a:srgbClr val="40458c"/>
                      </a:solidFill>
                      <a:latin typeface="Tahoma"/>
                      <a:ea typeface="Times New Roman"/>
                    </a:rPr>
                    <a:t>–</a:t>
                  </a: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39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85080" y="3262320"/>
                  <a:ext cx="2171520" cy="78228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456960" y="3262320"/>
                <a:ext cx="2374200" cy="782280"/>
                <a:chOff x="6456960" y="3262320"/>
                <a:chExt cx="2374200" cy="7822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545880" y="3262320"/>
                  <a:ext cx="2196360" cy="78228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85</a:t>
                  </a:r>
                  <a:r>
                    <a:rPr b="0" lang="en-US" sz="2400" spc="-1" strike="noStrike">
                      <a:solidFill>
                        <a:srgbClr val="40458c"/>
                      </a:solidFill>
                      <a:latin typeface="Tahoma"/>
                    </a:rPr>
                    <a:t>–</a:t>
                  </a: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89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456960" y="3262320"/>
                  <a:ext cx="2374200" cy="78228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15240" y="4045320"/>
                <a:ext cx="3669480" cy="782280"/>
                <a:chOff x="615240" y="4045320"/>
                <a:chExt cx="3669480" cy="7822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704160" y="4045320"/>
                  <a:ext cx="3491280" cy="78228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0458c"/>
                      </a:solidFill>
                      <a:latin typeface="Arial"/>
                      <a:ea typeface="Times New Roman"/>
                    </a:rPr>
                    <a:t>I</a:t>
                  </a:r>
                  <a:r>
                    <a:rPr b="1" lang="ru-RU" sz="2000" spc="-1" strike="noStrike">
                      <a:solidFill>
                        <a:srgbClr val="40458c"/>
                      </a:solidFill>
                      <a:latin typeface="Arial"/>
                      <a:ea typeface="Times New Roman"/>
                    </a:rPr>
                    <a:t> степень гипертонии (мягкая)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15240" y="4045320"/>
                  <a:ext cx="3669480" cy="78228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4285080" y="4045320"/>
                <a:ext cx="2171520" cy="782280"/>
                <a:chOff x="4285080" y="4045320"/>
                <a:chExt cx="2171520" cy="7822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4373640" y="4045320"/>
                  <a:ext cx="1993680" cy="78228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40</a:t>
                  </a:r>
                  <a:r>
                    <a:rPr b="0" lang="en-US" sz="2400" spc="-1" strike="noStrike">
                      <a:solidFill>
                        <a:srgbClr val="40458c"/>
                      </a:solidFill>
                      <a:latin typeface="Tahoma"/>
                    </a:rPr>
                    <a:t>–</a:t>
                  </a: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59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285080" y="4045320"/>
                  <a:ext cx="2171520" cy="78228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56960" y="4045320"/>
                <a:ext cx="2374200" cy="782280"/>
                <a:chOff x="6456960" y="4045320"/>
                <a:chExt cx="2374200" cy="7822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545880" y="4045320"/>
                  <a:ext cx="2196360" cy="78228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90</a:t>
                  </a:r>
                  <a:r>
                    <a:rPr b="0" lang="en-US" sz="2400" spc="-1" strike="noStrike">
                      <a:solidFill>
                        <a:srgbClr val="40458c"/>
                      </a:solidFill>
                      <a:latin typeface="Tahoma"/>
                    </a:rPr>
                    <a:t>–</a:t>
                  </a: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99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456960" y="4045320"/>
                  <a:ext cx="2374200" cy="78228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615240" y="4828320"/>
                <a:ext cx="3669480" cy="782280"/>
                <a:chOff x="615240" y="4828320"/>
                <a:chExt cx="3669480" cy="7822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04160" y="4828320"/>
                  <a:ext cx="3491280" cy="78228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0458c"/>
                      </a:solidFill>
                      <a:latin typeface="Arial"/>
                      <a:ea typeface="Times New Roman"/>
                    </a:rPr>
                    <a:t>II</a:t>
                  </a:r>
                  <a:r>
                    <a:rPr b="1" lang="ru-RU" sz="2000" spc="-1" strike="noStrike">
                      <a:solidFill>
                        <a:srgbClr val="40458c"/>
                      </a:solidFill>
                      <a:latin typeface="Arial"/>
                      <a:ea typeface="Times New Roman"/>
                    </a:rPr>
                    <a:t> степень гипертонии (умеренная)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15240" y="4828320"/>
                  <a:ext cx="3669480" cy="78228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285080" y="4828320"/>
                <a:ext cx="2171520" cy="782280"/>
                <a:chOff x="4285080" y="4828320"/>
                <a:chExt cx="2171520" cy="7822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373640" y="4828320"/>
                  <a:ext cx="1993680" cy="78228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60</a:t>
                  </a:r>
                  <a:r>
                    <a:rPr b="0" lang="en-US" sz="2400" spc="-1" strike="noStrike">
                      <a:solidFill>
                        <a:srgbClr val="40458c"/>
                      </a:solidFill>
                      <a:latin typeface="Tahoma"/>
                    </a:rPr>
                    <a:t>–</a:t>
                  </a: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79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285080" y="4828320"/>
                  <a:ext cx="2171520" cy="78228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456960" y="4828320"/>
                <a:ext cx="2374200" cy="782280"/>
                <a:chOff x="6456960" y="4828320"/>
                <a:chExt cx="2374200" cy="7822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45880" y="4828320"/>
                  <a:ext cx="2196360" cy="78228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0</a:t>
                  </a:r>
                  <a:r>
                    <a:rPr b="0" lang="en-US" sz="2400" spc="-1" strike="noStrike">
                      <a:solidFill>
                        <a:srgbClr val="40458c"/>
                      </a:solidFill>
                      <a:latin typeface="Tahoma"/>
                    </a:rPr>
                    <a:t>–</a:t>
                  </a: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456960" y="4828320"/>
                  <a:ext cx="2374200" cy="78228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615240" y="5610960"/>
                <a:ext cx="3669480" cy="782280"/>
                <a:chOff x="615240" y="5610960"/>
                <a:chExt cx="3669480" cy="7822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04160" y="5610960"/>
                  <a:ext cx="3491280" cy="78228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III</a:t>
                  </a:r>
                  <a:r>
                    <a:rPr b="1" lang="ru-RU" sz="2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степень гипертонии (тяжёлая)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15240" y="5610960"/>
                  <a:ext cx="3669480" cy="78228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285080" y="5610960"/>
                <a:ext cx="2171520" cy="782280"/>
                <a:chOff x="4285080" y="5610960"/>
                <a:chExt cx="2171520" cy="7822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373640" y="5610960"/>
                  <a:ext cx="1993680" cy="78228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0458c"/>
                      </a:solidFill>
                      <a:latin typeface="Symbol"/>
                      <a:ea typeface="Symbol"/>
                    </a:rPr>
                    <a:t></a:t>
                  </a: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8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285080" y="5610960"/>
                  <a:ext cx="2171520" cy="78228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6456960" y="5610960"/>
                <a:ext cx="2374200" cy="782280"/>
                <a:chOff x="6456960" y="5610960"/>
                <a:chExt cx="2374200" cy="7822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545880" y="5610960"/>
                  <a:ext cx="2196360" cy="782280"/>
                </a:xfrm>
                <a:prstGeom prst="rect">
                  <a:avLst/>
                </a:prstGeom>
                <a:noFill/>
                <a:ln w="572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0458c"/>
                      </a:solidFill>
                      <a:latin typeface="Symbol"/>
                      <a:ea typeface="Symbol"/>
                    </a:rPr>
                    <a:t></a:t>
                  </a:r>
                  <a:r>
                    <a:rPr b="1" lang="en-US" sz="2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1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456960" y="5610960"/>
                  <a:ext cx="2374200" cy="782280"/>
                </a:xfrm>
                <a:prstGeom prst="rect">
                  <a:avLst/>
                </a:prstGeom>
                <a:noFill/>
                <a:ln w="572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609480" y="1523880"/>
              <a:ext cx="8229240" cy="4876560"/>
            </a:xfrm>
            <a:prstGeom prst="rect">
              <a:avLst/>
            </a:prstGeom>
            <a:noFill/>
            <a:ln w="572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240" y="54039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837720"/>
            <a:ext cx="84582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Классификация уровней артериального давления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000" spc="-1" strike="noStrike">
                <a:solidFill>
                  <a:srgbClr val="40458c"/>
                </a:solidFill>
                <a:latin typeface="Arial"/>
              </a:rPr>
              <a:t>(национальные рекомендации </a:t>
            </a:r>
            <a:br>
              <a:rPr sz="2000"/>
            </a:br>
            <a:r>
              <a:rPr b="1" i="1" lang="en-US" sz="2000" spc="-1" strike="noStrike">
                <a:solidFill>
                  <a:srgbClr val="40458c"/>
                </a:solidFill>
                <a:latin typeface="Arial"/>
              </a:rPr>
              <a:t>по профилактике, диагностике и лечению АГ, 2002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slow" advTm="3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919160"/>
            <a:ext cx="91440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6062f"/>
                </a:solidFill>
                <a:latin typeface="Times New Roman"/>
              </a:rPr>
              <a:t>Это надо запомнить!</a:t>
            </a: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Уровень артериального давления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660066"/>
                </a:solidFill>
                <a:latin typeface="Tahoma"/>
              </a:rPr>
              <a:t> 140/90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 мм рт.ст. и выше </a:t>
            </a:r>
            <a:br>
              <a:rPr sz="3200"/>
            </a:b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читается для  взрослых </a:t>
            </a:r>
            <a:br>
              <a:rPr sz="3200"/>
            </a:b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повышенным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slow" advTm="3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03480" y="140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533520"/>
          <a:ext cx="8229600" cy="61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822960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07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Наиболее частые жалобы при повышении АД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Головные боли пульсирующего характера в затылочной области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возникают утром, при пробуждении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связаны с эмоциональным напряжением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</a:t>
            </a: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усиливаются к концу рабочего дня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Головокружени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елькание мушек перед глазам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лохой со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Раздражительность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рушения зрен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Боли в области сердц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62520" y="3657600"/>
            <a:ext cx="4572000" cy="396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341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обходимо измерять давление даже при хорошем самочувствии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измеряя АД, невозможно определить заболевание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6172200" y="4038480"/>
            <a:ext cx="838080" cy="17686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5562720"/>
            <a:ext cx="8839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062f"/>
                </a:solidFill>
                <a:latin typeface="Tahoma"/>
              </a:rPr>
              <a:t>Необходимо запомнить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Не надо полагаться только на собственные ощущения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Повышение АД не всегда сопровождается плохим самочувствием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Гипертонический криз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 –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это внезапный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езкий подъём артериального давлени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опровождающийся ухудшением самочувствия и опасный осложнениями.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1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7010280" y="4267080"/>
            <a:ext cx="1524240" cy="18687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860400" y="4654440"/>
            <a:ext cx="5958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062f"/>
                </a:solidFill>
                <a:latin typeface="Tahoma"/>
              </a:rPr>
              <a:t>Необходимо запомнить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Гипертонический криз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всегда требует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езотлагательного вмешательства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9480" y="1600200"/>
            <a:ext cx="8534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нервно-психические или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физические перегрузки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смена погоды,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метеорологические перемены           («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магнитные бури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»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курение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, особенно интенсивное;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резкая отмена некоторых лекарств, понижающих артериальное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давление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потребление алкогольных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напитков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обильный приём пищи,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особенно солёной и на ночь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употребление пищи или напитков, которые содержат вещества, способствующие повышению артериального давления (кофе, шоколад, сыр, икра и др.).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3360" y="304920"/>
            <a:ext cx="847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Факторы, провоцирующие гипертонический криз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884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Гипертонические кризы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словно делят на два типа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44a"/>
                </a:solidFill>
                <a:latin typeface="Arial"/>
              </a:rPr>
              <a:t>Криз </a:t>
            </a:r>
            <a:r>
              <a:rPr b="1" lang="ru-RU" sz="2400" spc="-1" strike="noStrike">
                <a:solidFill>
                  <a:srgbClr val="c8044a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8044a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c8044a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8044a"/>
                </a:solidFill>
                <a:latin typeface="Arial"/>
              </a:rPr>
              <a:t>тип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тносительно невысокое повышение АД с яркими вегетативными проявлениями: резкой головной болью, покраснением кожных покровов (лица), сердцебиением, дрожью, ознобом, обильным мочеотделением.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Arial"/>
              </a:rPr>
              <a:t>Криз II тип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протекает на фоне очень высоких цифр АД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с различными проявлениям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со стороны мозга, сердца: сильными головными болями, тошнотой, рвотой, зрительными расстройствами, судорогами, резкой одышкой, приступами стенокарди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057040" y="1219320"/>
            <a:ext cx="2514600" cy="609480"/>
          </a:xfrm>
          <a:prstGeom prst="line">
            <a:avLst/>
          </a:prstGeom>
          <a:ln w="7632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1219320"/>
            <a:ext cx="2590920" cy="685800"/>
          </a:xfrm>
          <a:prstGeom prst="line">
            <a:avLst/>
          </a:prstGeom>
          <a:ln w="7632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70320" y="420840"/>
            <a:ext cx="757836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062f"/>
                </a:solidFill>
                <a:latin typeface="Arial"/>
              </a:rPr>
              <a:t>Необходимо запомнить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Arial"/>
              </a:rPr>
              <a:t>При появлении симптомов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Arial"/>
              </a:rPr>
              <a:t>сопровождающих гипертонический криз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6062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062f"/>
                </a:solidFill>
                <a:latin typeface="Arial"/>
              </a:rPr>
              <a:t>Измерить артериальное давление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6062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062f"/>
                </a:solidFill>
                <a:latin typeface="Arial"/>
              </a:rPr>
              <a:t>Принять  препараты, снижающие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062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c6062f"/>
                </a:solidFill>
                <a:latin typeface="Arial"/>
              </a:rPr>
              <a:t>повышенное артериальное давление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клонидин (клофелин) 0,075–0,15 мг, </a:t>
            </a:r>
            <a:r>
              <a:rPr b="1" lang="ru-RU" sz="2000" spc="-1" strike="noStrike">
                <a:solidFill>
                  <a:srgbClr val="c6062f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каптоприл (капотен) 25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50 мг, </a:t>
            </a:r>
            <a:r>
              <a:rPr b="1" lang="ru-RU" sz="2000" spc="-1" strike="noStrike">
                <a:solidFill>
                  <a:srgbClr val="c6062f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нифедипин (коринфар) 10 мг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при появлении загрудинных болей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нитроглицерин  под язык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062f"/>
                </a:solidFill>
                <a:latin typeface="Arial"/>
              </a:rPr>
              <a:t>3. Вызвать врача скорой помощи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60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200" y="6031080"/>
            <a:ext cx="74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6062f"/>
                </a:solidFill>
                <a:latin typeface="Arial"/>
              </a:rPr>
              <a:t>Не принимайте неэффективных средств  (папазол, дибазол)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09:02:47Z</dcterms:created>
  <dc:creator>User</dc:creator>
  <dc:description/>
  <dc:language>en-US</dc:language>
  <cp:lastModifiedBy>kakadu</cp:lastModifiedBy>
  <dcterms:modified xsi:type="dcterms:W3CDTF">2007-12-07T10:11:26Z</dcterms:modified>
  <cp:revision>82</cp:revision>
  <dc:subject/>
  <dc:title>Презентация PowerPoint</dc:title>
</cp:coreProperties>
</file>