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A75-B160-4E6A-82B3-183AFCA7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C08-3003-4EAC-AF70-7C023647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E4A-319E-4501-8705-3B19A851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D5B-58AE-4E37-BDC3-1D7BB0A3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8B7-2CC6-4319-8306-2DF9470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7ADF-F476-49DA-BF58-1F52AD2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0CD5-79A8-4BB8-AFCE-D5922474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18C-A9B7-40FC-9BC2-535E73F0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A0C0-CA8B-4F59-8CA5-A447FECF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0B5-E9DB-47F3-92AD-7D27D87E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DE1-8CCE-4ED8-8AE9-E913EE6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1DC-EDCC-46FF-9087-3F7AB318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8AAC-BE72-4BA5-A250-9056E0F2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0BC-350D-4DC4-9148-4AFCE95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0221-EA83-4275-9EA9-7ACE41CE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01DD-A32A-47DD-97B5-1E32B833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E75-35FE-4B36-8A66-FB05E05F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6E5-455E-44E1-84B3-E942797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3D2-360F-4AD7-AAD2-DAD4344A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B90-AD1C-429F-9D16-E00FD02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CCD-56E9-4125-8830-F32F2EE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9C4-2A06-4A38-B8B8-7BD0E5C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30A-2A61-4E7D-9563-69B062F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51D-5444-474E-B473-E90144E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5A80-6A3D-4D66-8638-B90B300C4A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1E5A-4EAC-4836-9A6A-37E2EF3246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485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то мы знаем о вреде курения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ипы курительного поведения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чему люди курят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то такое никотиновая зависимость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е методы лечения табакокур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отивация и готовность бросить курить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Я решил бросить курить!  С чего начать?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5715000"/>
            <a:ext cx="1981080" cy="2286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715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715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4724280"/>
            <a:ext cx="990720" cy="990720"/>
          </a:xfrm>
          <a:prstGeom prst="cloudCallout">
            <a:avLst>
              <a:gd name="adj1" fmla="val -45194"/>
              <a:gd name="adj2" fmla="val 5160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286000" y="48006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Занятие 5</a:t>
            </a:r>
            <a:br>
              <a:rPr sz="2400"/>
            </a:b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Курение и здоровье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 advTm="3000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Жажда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Физическая привязанность к табаку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Человек закуривает, когда снижается концентрация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никотина в крови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40458c"/>
                </a:solidFill>
                <a:latin typeface="Times New Roman"/>
              </a:rPr>
              <a:t>Курит в любой ситуации, вопреки запретам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791320"/>
            <a:ext cx="2590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7913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895480"/>
            <a:ext cx="5638680" cy="2667240"/>
          </a:xfrm>
          <a:prstGeom prst="cloudCallout">
            <a:avLst>
              <a:gd name="adj1" fmla="val -46453"/>
              <a:gd name="adj2" fmla="val 7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2895480" cy="2022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Рефлекс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i="1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Курящие не только не осознают причин своего курения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но часто не замечают сам факт ег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Курят автоматически: человек может не знать, скольк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выкуривает в день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Курят много: 35 и более сигарет в сутк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Курят чаще за работой, чем в часы отдыха; че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интенсивнее работа, тем чаще в руке сига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5867280"/>
            <a:ext cx="2895480" cy="3812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8672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58672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4952880"/>
            <a:ext cx="4800600" cy="914400"/>
          </a:xfrm>
          <a:prstGeom prst="cloudCallout">
            <a:avLst>
              <a:gd name="adj1" fmla="val -62236"/>
              <a:gd name="adj2" fmla="val 4705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486400" y="502920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68360" y="212760"/>
          <a:ext cx="4953240" cy="66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2760"/>
                    <a:ext cx="495324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5244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Оценка курения как фактора риска развития заболеваний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проводится по </a:t>
            </a:r>
            <a:r>
              <a:rPr b="1" i="1" lang="ru-RU" sz="3200" spc="-1" strike="noStrike" u="sng">
                <a:solidFill>
                  <a:srgbClr val="40458c"/>
                </a:solidFill>
                <a:uFillTx/>
                <a:latin typeface="Times New Roman"/>
              </a:rPr>
              <a:t>индексу курения (ИК</a:t>
            </a:r>
            <a:r>
              <a:rPr b="1" i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):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062f"/>
                </a:solidFill>
                <a:latin typeface="Times New Roman"/>
              </a:rPr>
              <a:t>ИК = число сигарет, выкуриваемых в день </a:t>
            </a:r>
            <a:r>
              <a:rPr b="1" lang="ru-RU" sz="2800" spc="-1" strike="noStrike">
                <a:solidFill>
                  <a:srgbClr val="c6062f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c6062f"/>
                </a:solidFill>
                <a:latin typeface="Times New Roman"/>
              </a:rPr>
              <a:t> 1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6062f"/>
                </a:solidFill>
                <a:latin typeface="Times New Roman"/>
              </a:rPr>
              <a:t>Запомните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При ИК &gt;140 риск развития хронических обструктивных болезней лёгких крайне выс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8610480" y="2971800"/>
            <a:ext cx="152640" cy="2286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10480" y="5410080"/>
            <a:ext cx="22860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 какой степени Вы готовы бросить курить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Arial"/>
              </a:rPr>
              <a:t>1. Бросили бы Вы курить,  если бы это было легко сделать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ОТВЕТ                БАЛ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Определённо нет         0          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Вероятно,        нет       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Возможно,       да          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Вероятно,        да         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Определённо да           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33760" y="22096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062f"/>
                </a:solidFill>
                <a:latin typeface="Arial"/>
              </a:rPr>
              <a:t>2. Как сильно Вы хотите бросить курить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ОТВЕТ                БАЛ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Не        хочу                   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Слабое желание          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В средней степени       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Сильное желание        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Однозначно хочу          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749160" y="1484280"/>
            <a:ext cx="70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062f"/>
                </a:solidFill>
                <a:latin typeface="Arial"/>
              </a:rPr>
              <a:t>Инструкция:</a:t>
            </a:r>
            <a:r>
              <a:rPr b="0" i="1" lang="en-US" sz="1800" spc="-1" strike="noStrike">
                <a:solidFill>
                  <a:srgbClr val="40458c"/>
                </a:solidFill>
                <a:latin typeface="Arial"/>
              </a:rPr>
              <a:t> ответьте на  вопросы, выбрав один наиболее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Arial"/>
              </a:rPr>
              <a:t>подходящий ответ и оценив его в баллах. Суммируйте баллы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5029200"/>
            <a:ext cx="86868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6062f"/>
                </a:solidFill>
                <a:latin typeface="Arial"/>
              </a:rPr>
              <a:t>Инструкция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458c"/>
                </a:solidFill>
                <a:latin typeface="Arial"/>
              </a:rPr>
              <a:t>Если сумма баллов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больше 6: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                 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твёрдая решимость отказаться от курения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—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можно с успехом бросить курение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–6: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                          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лабая мотиваци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я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можно начать с уменьшения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курения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ниже 3: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готовность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к отказу от курения отсутствует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попытайтесь уменьшить 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</a:rPr>
              <a:t>                интенсивность курения</a:t>
            </a: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9760" y="3886200"/>
            <a:ext cx="1348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062f"/>
                </a:solidFill>
                <a:latin typeface="Arial"/>
              </a:rPr>
              <a:t>Сумма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062f"/>
                </a:solidFill>
                <a:latin typeface="Arial"/>
              </a:rPr>
              <a:t>баллов:__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660680" y="152280"/>
          <a:ext cx="603540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52280"/>
                    <a:ext cx="60354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219320" y="457200"/>
          <a:ext cx="632448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632448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860480" y="586728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Удачи желающим бросить курить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692360" y="-76320"/>
          <a:ext cx="563868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-76320"/>
                    <a:ext cx="563868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124000" y="395280"/>
          <a:ext cx="492300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5280"/>
                    <a:ext cx="492300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908000" y="152280"/>
          <a:ext cx="54262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2280"/>
                    <a:ext cx="5426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812960" y="244440"/>
          <a:ext cx="5638680" cy="66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440"/>
                    <a:ext cx="563868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191120" y="380880"/>
            <a:ext cx="4572000" cy="1143000"/>
          </a:xfrm>
          <a:prstGeom prst="cloudCallout">
            <a:avLst>
              <a:gd name="adj1" fmla="val -82814"/>
              <a:gd name="adj2" fmla="val 36736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«</a:t>
            </a: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Стимуляция</a:t>
            </a: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».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Курящий верит, что сигарета облада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тимулирующим действием: взбадривае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нимает усталость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Курят, когда работа не ладитс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ысокая степень психологической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зависимости от никоти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Часто отмечаются симптомы астении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егетососудистой дистон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410080"/>
            <a:ext cx="1981440" cy="2286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54100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100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4800600"/>
            <a:ext cx="350496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03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«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Игра с сигаретой».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Курящий «играет» в курение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Ему важны «курительные» аксессуары: зажигалки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пепельницы, сорт сигарет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Нередко он стремится выпускать дым на свой манер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В основном курят в ситуациях общения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«за компанию»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Курят мало, обычно 2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–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3 сигареты в день.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6095880"/>
            <a:ext cx="5257800" cy="457200"/>
          </a:xfrm>
          <a:prstGeom prst="flowChartMagneticDrum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5181480"/>
            <a:ext cx="990360" cy="1143000"/>
          </a:xfrm>
          <a:prstGeom prst="donut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800600"/>
            <a:ext cx="685800" cy="762120"/>
          </a:xfrm>
          <a:prstGeom prst="donut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4343400"/>
            <a:ext cx="457200" cy="609480"/>
          </a:xfrm>
          <a:prstGeom prst="donut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3962520"/>
            <a:ext cx="228600" cy="380880"/>
          </a:xfrm>
          <a:prstGeom prst="donut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3733920"/>
            <a:ext cx="7596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419112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«Расслабление».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Курят только в комфортных условия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 помощью курения человек получа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«дополнительное удовольствие» при отдых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Бросают курить долго, много раз возвращаясь </a:t>
            </a:r>
            <a:br>
              <a:rPr sz="2400"/>
            </a:b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к курению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91320"/>
            <a:ext cx="2133720" cy="228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57913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57913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3809880"/>
            <a:ext cx="4267080" cy="2133720"/>
          </a:xfrm>
          <a:prstGeom prst="cloudCallout">
            <a:avLst>
              <a:gd name="adj1" fmla="val -54351"/>
              <a:gd name="adj2" fmla="val 4508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38862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3124080" cy="1773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Типы курительного поведе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7640" y="9140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Поддержка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Этот тип курения связан с ситуациями волнения, эмоционального напряжения, дискомфор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Курят, чтобы сдержать гнев, преодолеть застенчивость, собраться с духом, разобраться с неприятной ситуацией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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Относятся к курению как к средству, уменьшающему эмоциональное напряжени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22096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58672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657600"/>
            <a:ext cx="5562720" cy="2514600"/>
          </a:xfrm>
          <a:prstGeom prst="cloudCallout">
            <a:avLst>
              <a:gd name="adj1" fmla="val -51226"/>
              <a:gd name="adj2" fmla="val 4331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286000" cy="1784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leva</cp:lastModifiedBy>
  <dcterms:modified xsi:type="dcterms:W3CDTF">2007-11-26T15:53:52Z</dcterms:modified>
  <cp:revision>82</cp:revision>
  <dc:subject/>
  <dc:title>Презентация PowerPoint</dc:title>
</cp:coreProperties>
</file>