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EB3-89A6-47D6-92CD-8B3D5511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105-57A2-4DEB-AE64-E4EF4889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7FE-DE72-45DD-856A-52920F0E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CAF-8872-425A-950C-FD62A163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4FD3-8CE4-4F52-B67E-8FB15DD9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B82-D2EF-4A01-AEFB-96CB3DEE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4938-0E4A-4DC0-99D0-6C86B15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1AB6-69C7-4801-A2A8-714B68F7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5E5B-9E1C-4229-BA06-4938502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FD88-00C6-4409-B169-B7D32A2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6C40-2E7A-4145-A622-44945678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451-277E-4DB9-9A8E-8F0309A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6555-9B75-4AF1-B5EA-78BDD9B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1C7-0B19-48BA-A4C1-7C73732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71D0-5D41-43E3-8460-8819B14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3465-1C83-4A9C-A48B-311CA916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7479-39D7-40DA-846E-BD484F22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509-2505-4D95-8835-0C87878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FD5-6694-4D1F-A27B-A1D6FDFC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85C-CB5F-4E69-BCBF-22B10E74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408-41AC-4E4B-8F14-5A6C8C42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BBE-2C25-4F63-A018-A8B40C4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E47-3972-4A66-9166-A49A4118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CDC-4DBB-4C22-BC95-30B6CB69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EE20-C0AF-4EA9-8CD5-7826C17348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5455-504E-4645-A190-F169140E63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Занятие 3</a:t>
            </a:r>
            <a:br>
              <a:rPr sz="2400"/>
            </a:br>
            <a:r>
              <a:rPr b="1" lang="ru-RU" sz="2400" spc="-1" strike="noStrike">
                <a:solidFill>
                  <a:srgbClr val="c6062f"/>
                </a:solidFill>
                <a:latin typeface="Tahoma"/>
              </a:rPr>
              <a:t>Что надо знать о</a:t>
            </a: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6062f"/>
                </a:solidFill>
                <a:latin typeface="Tahoma"/>
              </a:rPr>
              <a:t>  питании при ожирении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Что такое ожирение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Что такое «индекс массы тела»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к рассчитать свою нормальную массу тела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к выяснить тип ожирения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Какими способами  ограничить  калорийность рациона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аки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изменения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в диете нужны при  сопутствующих заболеваниях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Артериальной гиперто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Желудочно-кишечных заболеваниях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Мочекислом диатез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Атеросклероз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акие существуют «модные диеты»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29600" y="1143000"/>
            <a:ext cx="18144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4568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«Французская» диета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(1200–1500 ккал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Завтрак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: 100 г отварного мяса, капуста, сала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Обед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: 100 г отварной рыбы, морковь, яблок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Ужин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: 50 г нежирного сыра + 1 яйц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На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ночь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— фрукты</a:t>
            </a:r>
            <a:r>
              <a:rPr b="1" lang="en-U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172200" y="4684680"/>
          <a:ext cx="1981080" cy="186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4684680"/>
                    <a:ext cx="198108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 flipV="1">
            <a:off x="5791320" y="5029200"/>
            <a:ext cx="2666880" cy="1295280"/>
          </a:xfrm>
          <a:prstGeom prst="line">
            <a:avLst/>
          </a:prstGeom>
          <a:ln w="7632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5029200"/>
            <a:ext cx="1752840" cy="1523880"/>
          </a:xfrm>
          <a:prstGeom prst="line">
            <a:avLst/>
          </a:prstGeom>
          <a:ln w="7632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«МОДНЫ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ДИЕТ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Ы» очень разные. </a:t>
            </a:r>
            <a:r>
              <a:rPr b="1" lang="en-US" sz="2800" spc="-1" strike="noStrike">
                <a:solidFill>
                  <a:srgbClr val="c8044a"/>
                </a:solidFill>
                <a:latin typeface="Arial"/>
              </a:rPr>
              <a:t>Нужно подходить к ним критично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Китайская, французская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(1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2 мес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ткинса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(только молодым до 3 мес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Вегетарианская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(после 40 лет).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Попеременные диеты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(1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2 нед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Голодание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(не более 3 дней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Раздельное питание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(«миф»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Гемокод («миф»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Разгрузочные дни </a:t>
            </a: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(запомните!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(Только после  консультации с врачом 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много противопоказаний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319880" y="2971800"/>
            <a:ext cx="1595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044a"/>
                </a:solidFill>
                <a:latin typeface="Arial"/>
              </a:rPr>
              <a:t>ЛЕЧИТЬ ДИЕТОЙ НУЖНО И  </a:t>
            </a:r>
            <a:r>
              <a:rPr b="1" lang="en-US" sz="2800" spc="-1" strike="noStrike">
                <a:solidFill>
                  <a:srgbClr val="c8044a"/>
                </a:solidFill>
                <a:latin typeface="Arial"/>
                <a:ea typeface="Arial"/>
              </a:rPr>
              <a:t>СОПУТСТВУЮЩ</a:t>
            </a:r>
            <a:r>
              <a:rPr b="1" lang="en-US" sz="2800" spc="-1" strike="noStrike">
                <a:solidFill>
                  <a:srgbClr val="c8044a"/>
                </a:solidFill>
                <a:latin typeface="Arial"/>
              </a:rPr>
              <a:t>УЮ</a:t>
            </a:r>
            <a:r>
              <a:rPr b="1" lang="en-US" sz="2800" spc="-1" strike="noStrike">
                <a:solidFill>
                  <a:srgbClr val="c8044a"/>
                </a:solidFill>
                <a:latin typeface="Arial"/>
                <a:ea typeface="Arial"/>
              </a:rPr>
              <a:t> ОЖИРЕНИЮ ПАТОЛОГИ</a:t>
            </a:r>
            <a:r>
              <a:rPr b="1" lang="en-US" sz="2800" spc="-1" strike="noStrike">
                <a:solidFill>
                  <a:srgbClr val="c8044a"/>
                </a:solidFill>
                <a:latin typeface="Arial"/>
              </a:rPr>
              <a:t>Ю!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Артериальная гиперто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ердечная недостаточность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(больше калия, меньше поваренной сол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Гиперхолестеринемия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(ограничить животные жиры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, яйца, субпродукты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Мочекислый диатез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(меньше бульонов, колбасных изделий, субпродуктов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, больше цитрусовых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Дискинезии жёлчного пузыря и толстой кишки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(больше клеточных оболочек и раст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ительного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масл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Воспалительные изменения в желудочно-кишечном тракте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нужна щадящая кулинарная обработка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).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ДРУГИЕ МЕТОДЫ ЛЕЧЕНИЯ ОЖИРЕНИЯ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6062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Физическая активность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6062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Аутотренин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6062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Биологически активны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добав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6062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Лекарственная терап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6062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Хирургическое лечение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629400" y="3886200"/>
          <a:ext cx="133020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886200"/>
                    <a:ext cx="13302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ЧИТАЙТЕ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НОРМАЛЬ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Ю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МАСС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ТЕЛ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ДЛЯ ВАС!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Для мужчи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идеальная масса тела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= рост – [100 + (рост–100):20]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Для женщин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идеальная масса тела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»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= рост – [100 + (рост–100):10]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553080" y="4724280"/>
          <a:ext cx="205740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4724280"/>
                    <a:ext cx="2057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АКИЕ ОРГАНЫ И СИСТЕМЫ ПОРАЖАЮТСЯ ПР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ОЖИРЕНИ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5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ердечно-сосудистая  система (80%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Органы дыхания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Органы пищеварения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Эндокринная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Почки  (мочекислый диатез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уставы, позвоноч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Вен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Проблемы при родах и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посл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е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опера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ци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948360" y="3500280"/>
          <a:ext cx="152424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48360" y="3500280"/>
                    <a:ext cx="15242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7391520" y="533520"/>
            <a:ext cx="1143000" cy="838080"/>
          </a:xfrm>
          <a:custGeom>
            <a:avLst/>
            <a:gdLst>
              <a:gd name="textAreaLeft" fmla="*/ 268560 w 1143000"/>
              <a:gd name="textAreaRight" fmla="*/ 873720 w 11430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12954"/>
          </a:solidFill>
          <a:ln w="9360">
            <a:solidFill>
              <a:srgbClr val="f12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Оцените с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тепен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ь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 ожирения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ри его наличии и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в зависимости от превышения массы тела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65080" indent="-6634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12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40458c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 степень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 — на 15–29%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65080" indent="-6634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11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40458c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 степень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— на 30–49%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65080" indent="-6634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11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40458c"/>
                </a:solidFill>
                <a:latin typeface="Arial"/>
                <a:ea typeface="Arial"/>
              </a:rPr>
              <a:t>III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  степень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— на 50–99%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865080" indent="-663480" algn="just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SzPct val="11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40458c"/>
                </a:solidFill>
                <a:latin typeface="Arial"/>
                <a:ea typeface="Arial"/>
              </a:rPr>
              <a:t>IV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 степень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— на 100% и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  <a:ea typeface="Arial"/>
              </a:rPr>
              <a:t>боле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пределите и оцените Ваш индекс и риск, пользуясь таблицей классификации массы тела и риска развития сердечно-сосудистых заболеваний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46200" y="1981080"/>
          <a:ext cx="8102520" cy="4989600"/>
        </p:xfrm>
        <a:graphic>
          <a:graphicData uri="http://schemas.openxmlformats.org/drawingml/2006/table">
            <a:tbl>
              <a:tblPr/>
              <a:tblGrid>
                <a:gridCol w="2977920"/>
                <a:gridCol w="2071800"/>
                <a:gridCol w="3052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асса тел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ндекс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1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Риск ССЗ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Дефицит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8,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1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изки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Нормальная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8,5–24,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1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бычны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Избыточная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25–29,9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1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Повышенны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жирение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тепен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30,0–34,9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1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жирение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тепен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35,0–39,9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1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чень высоки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Ожирение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III 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степен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660066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e1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Чрезвычайно высоки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447920" y="1173240"/>
          <a:ext cx="6476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73240"/>
                    <a:ext cx="6476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Диагностические значения индекса Т/Б (талия/бёдр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)   </a:t>
            </a:r>
            <a:br>
              <a:rPr sz="2800"/>
            </a:br>
            <a:r>
              <a:rPr b="1" lang="en-US" sz="2800" spc="-1" strike="noStrike">
                <a:solidFill>
                  <a:srgbClr val="c8044a"/>
                </a:solidFill>
                <a:latin typeface="Arial"/>
              </a:rPr>
              <a:t>Оцените тип Вашего ожирени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, если оно имеется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71680" y="2057400"/>
            <a:ext cx="8000640" cy="4076640"/>
            <a:chOff x="571680" y="2057400"/>
            <a:chExt cx="8000640" cy="4076640"/>
          </a:xfrm>
        </p:grpSpPr>
        <p:grpSp>
          <p:nvGrpSpPr>
            <p:cNvPr id="227" name=""/>
            <p:cNvGrpSpPr/>
            <p:nvPr/>
          </p:nvGrpSpPr>
          <p:grpSpPr>
            <a:xfrm>
              <a:off x="577080" y="2060640"/>
              <a:ext cx="7989120" cy="4069080"/>
              <a:chOff x="577080" y="2060640"/>
              <a:chExt cx="7989120" cy="406908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577080" y="2060640"/>
                <a:ext cx="2846880" cy="942480"/>
                <a:chOff x="577080" y="2060640"/>
                <a:chExt cx="2846880" cy="9424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57360" y="2060640"/>
                  <a:ext cx="2686320" cy="94248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Индекс талия/бёдра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7080" y="2060640"/>
                  <a:ext cx="2846880" cy="94248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24320" y="2060640"/>
                <a:ext cx="5141880" cy="942480"/>
                <a:chOff x="3424320" y="2060640"/>
                <a:chExt cx="5141880" cy="942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504600" y="2060640"/>
                  <a:ext cx="4980960" cy="94248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Тип распределения жировой ткани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424320" y="2060640"/>
                  <a:ext cx="5141880" cy="94248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77080" y="3003120"/>
                <a:ext cx="2846880" cy="643320"/>
                <a:chOff x="577080" y="3003120"/>
                <a:chExt cx="2846880" cy="643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57360" y="3003120"/>
                  <a:ext cx="2686320" cy="64332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0,8–</a:t>
                  </a: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</a:rPr>
                    <a:t>0</a:t>
                  </a: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,9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7080" y="3003120"/>
                  <a:ext cx="2846880" cy="64332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424320" y="3003120"/>
                <a:ext cx="5141880" cy="643320"/>
                <a:chOff x="3424320" y="3003120"/>
                <a:chExt cx="5141880" cy="643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504600" y="3003120"/>
                  <a:ext cx="4980960" cy="64332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Промежуточный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424320" y="3003120"/>
                  <a:ext cx="5141880" cy="64332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7080" y="3646440"/>
                <a:ext cx="2846880" cy="942480"/>
                <a:chOff x="577080" y="3646440"/>
                <a:chExt cx="2846880" cy="9424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57360" y="3646440"/>
                  <a:ext cx="2686320" cy="94248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Менее 0,8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7080" y="3646440"/>
                  <a:ext cx="2846880" cy="94248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424320" y="3646440"/>
                <a:ext cx="5141880" cy="942480"/>
                <a:chOff x="3424320" y="3646440"/>
                <a:chExt cx="5141880" cy="942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504600" y="3646440"/>
                  <a:ext cx="4980960" cy="94248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Гиноидный</a:t>
                  </a: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 (бедренно-ягодичный, «груша»)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424320" y="3646440"/>
                  <a:ext cx="5141880" cy="94248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77080" y="4589280"/>
                <a:ext cx="2846880" cy="1540440"/>
                <a:chOff x="577080" y="4589280"/>
                <a:chExt cx="2846880" cy="15404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7360" y="4589280"/>
                  <a:ext cx="2686320" cy="154044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Более 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40458c"/>
                      </a:solidFill>
                      <a:latin typeface="Times New Roman"/>
                    </a:rPr>
                    <a:t>0,9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7080" y="4589280"/>
                  <a:ext cx="2846880" cy="154044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424320" y="4589280"/>
                <a:ext cx="5141880" cy="1540440"/>
                <a:chOff x="3424320" y="4589280"/>
                <a:chExt cx="5141880" cy="15404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504600" y="4589280"/>
                  <a:ext cx="4980960" cy="154044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6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Андроидный </a:t>
                  </a:r>
                  <a:r>
                    <a:rPr b="1" lang="ru-RU" sz="26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(абдоминальный, центральный, «яблоко»)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424320" y="4589280"/>
                  <a:ext cx="5141880" cy="1540440"/>
                </a:xfrm>
                <a:prstGeom prst="rect">
                  <a:avLst/>
                </a:prstGeom>
                <a:noFill/>
                <a:ln w="0">
                  <a:solidFill>
                    <a:srgbClr val="00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571680" y="2057400"/>
              <a:ext cx="8000640" cy="4076640"/>
            </a:xfrm>
            <a:prstGeom prst="rect">
              <a:avLst/>
            </a:prstGeom>
            <a:noFill/>
            <a:ln w="11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253" name=""/>
          <p:cNvGraphicFramePr/>
          <p:nvPr/>
        </p:nvGraphicFramePr>
        <p:xfrm>
          <a:off x="1523880" y="4753080"/>
          <a:ext cx="1447920" cy="13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753080"/>
                    <a:ext cx="144792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сновные принципы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ставления диеты при ожирении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93200" y="1371240"/>
            <a:ext cx="86504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1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резкое ограничение легкоусвояемых углеводов;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граничение жира животного происхождения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граничение крахмалсодержащих продуктов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достаточное (250–300 г) потреблени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белковых продуктов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потребление большого количества овощей (кроме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картофеля) и фруктов (до 1 кг в сумме)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граничение поваренной соли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граничение острых закусок, соусов, пряностей;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частое употребление пищи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7120" indent="-348480" algn="just">
              <a:lnSpc>
                <a:spcPct val="100000"/>
              </a:lnSpc>
              <a:spcBef>
                <a:spcPts val="601"/>
              </a:spcBef>
              <a:buSzPct val="1490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использование так называемых «зигзагов»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в питании (контрастные дн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458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еобходимый для Вас н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абор продукто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1800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кал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1.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12954"/>
                </a:solidFill>
                <a:latin typeface="Arial"/>
                <a:ea typeface="Arial"/>
              </a:rPr>
              <a:t>Мясо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, рыба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— до 200 г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2.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12954"/>
                </a:solidFill>
                <a:latin typeface="Arial"/>
                <a:ea typeface="Arial"/>
              </a:rPr>
              <a:t>Яйца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— 0,5 шт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уки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3.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12954"/>
                </a:solidFill>
                <a:latin typeface="Arial"/>
                <a:ea typeface="Arial"/>
              </a:rPr>
              <a:t>Молочные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продукты (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творог)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до 100 г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4.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12954"/>
                </a:solidFill>
                <a:latin typeface="Arial"/>
                <a:ea typeface="Arial"/>
              </a:rPr>
              <a:t>Хлеб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, хлебобулочные изделия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до 150 г чёрного хлеба в день (гарниры из круп и макаронных изделий, картофеля можно вместо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хлеба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5.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Блюда и гарниры из </a:t>
            </a:r>
            <a:r>
              <a:rPr b="1" lang="ru-RU" sz="2000" spc="-1" strike="noStrike">
                <a:solidFill>
                  <a:srgbClr val="f12954"/>
                </a:solidFill>
                <a:latin typeface="Arial"/>
                <a:ea typeface="Arial"/>
              </a:rPr>
              <a:t>овощей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лиственной зелени                            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без огранич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6.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12954"/>
                </a:solidFill>
                <a:latin typeface="Arial"/>
                <a:ea typeface="Arial"/>
              </a:rPr>
              <a:t>Фрукты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, ягоды в сыром виде ил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в виде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компотов без сахара                     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до 400 г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7.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12954"/>
                </a:solidFill>
                <a:latin typeface="Arial"/>
                <a:ea typeface="Arial"/>
              </a:rPr>
              <a:t>Закуски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: нежирная ветчина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докторская» колбаса, неострый сыр   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 до 25 г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8.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12954"/>
                </a:solidFill>
                <a:latin typeface="Arial"/>
                <a:ea typeface="Arial"/>
              </a:rPr>
              <a:t>Масло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сливочное, лучш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маргарин,   масло растительное             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до 20 г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9.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12954"/>
                </a:solidFill>
                <a:latin typeface="Arial"/>
                <a:ea typeface="Arial"/>
              </a:rPr>
              <a:t>Напитки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: чай, кофе некрепкий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сок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,  минеральная вода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до 5 ст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акано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02:47Z</dcterms:created>
  <dc:creator>User</dc:creator>
  <dc:description/>
  <dc:language>en-US</dc:language>
  <cp:lastModifiedBy>Customer</cp:lastModifiedBy>
  <dcterms:modified xsi:type="dcterms:W3CDTF">2011-03-30T05:29:30Z</dcterms:modified>
  <cp:revision>76</cp:revision>
  <dc:subject/>
  <dc:title>Презентация PowerPoint</dc:title>
</cp:coreProperties>
</file>