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D3D-DB7C-46C6-86BB-977700C7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CEF-EB5B-4D6A-B0C6-6BCE674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24B-4B5D-4208-9FE8-54AD6316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A42-1B24-4057-A2AA-D5A11940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DD8-3CC1-4CD9-9FF4-B618833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4F13-5516-428F-A52A-083E7A15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0471-9F18-4244-B4AD-2D8E0718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4EDA-0000-4C0C-9682-598DFCA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D455-F179-4593-8107-C4D6752E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D695-AC95-4472-9D25-472ECEF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414E-D281-474B-A9C6-65B5B13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57F-9113-4C63-A509-0617CB81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3225-F399-474F-9163-33F38BB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D1DF-1A85-460B-B4C3-8A5CB5F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F18F-BE48-44ED-ABB5-026F12E7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9974-E916-4F74-844B-B9DCE95F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9437-D757-4B5A-ADC1-F4822C8A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35C-5753-4912-867E-483842DC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D4D-EDBF-4B94-A112-DA0BA53F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32A-2024-4580-9C9C-2FBE1D3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982-82C0-4BEE-9B92-9F3BAD78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4C6-02C6-451F-81F3-72E0B98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AD4-BF0B-45DE-9ED6-3D1F1356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216-3EDD-4391-9C37-4D022A6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D918-41A1-4ADB-942C-BC278286C6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1A81-E83B-4E13-AB79-076ECBAAAF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3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Занятие 4</a:t>
            </a:r>
            <a:br>
              <a:rPr sz="2400"/>
            </a:br>
            <a:r>
              <a:rPr b="1" lang="ru-RU" sz="2400" spc="-1" strike="noStrike">
                <a:solidFill>
                  <a:srgbClr val="c6062f"/>
                </a:solidFill>
                <a:latin typeface="Tahoma"/>
              </a:rPr>
              <a:t>Что надо знать о</a:t>
            </a:r>
            <a:r>
              <a:rPr b="1" lang="en-US" sz="2400" spc="-1" strike="noStrike">
                <a:solidFill>
                  <a:srgbClr val="c6062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6062f"/>
                </a:solidFill>
                <a:latin typeface="Tahoma"/>
              </a:rPr>
              <a:t>  физической активности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20574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ую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рол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ое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значен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 имеет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физическ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я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активност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ь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дл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ашего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здоровья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ие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мето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ы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повыш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ют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физическ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ую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активност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ь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 контрол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ироват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 интенсивность физических нагрузок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 одеться при тренировках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к оценить свою тренированность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3716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Контролируйте интенсивность Вашей физической нагрузк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Максимальная частота сердечны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сокращений (МЧСС) для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здоровог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человека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«220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возраст»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меренная интенсивность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55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70% МЧС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Значительная интенсивность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70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85% МЧСС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914400"/>
            <a:ext cx="914400" cy="838080"/>
          </a:xfrm>
          <a:custGeom>
            <a:avLst/>
            <a:gdLst>
              <a:gd name="textAreaLeft" fmla="*/ 214920 w 914400"/>
              <a:gd name="textAreaRight" fmla="*/ 699120 w 91440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1295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838080" y="1752480"/>
          <a:ext cx="7696080" cy="4314960"/>
        </p:xfrm>
        <a:graphic>
          <a:graphicData uri="http://schemas.openxmlformats.org/drawingml/2006/table">
            <a:tbl>
              <a:tblPr/>
              <a:tblGrid>
                <a:gridCol w="2120400"/>
                <a:gridCol w="2664000"/>
                <a:gridCol w="291168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, лет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Интенсивность (пульс в 1 мин)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н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изкая 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  умеренная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у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меренная   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з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начительная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</a:tr>
              <a:tr h="27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80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05–13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99–12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94–119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88–11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83–10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77–98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33–16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26–153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19–145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12–136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05–128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98</a:t>
                      </a:r>
                      <a:r>
                        <a:rPr b="1" lang="ru-RU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1" lang="en-GB" sz="2400" spc="-1" strike="noStrike">
                          <a:solidFill>
                            <a:srgbClr val="660066"/>
                          </a:solidFill>
                          <a:latin typeface="Arial"/>
                          <a:ea typeface="Arial"/>
                        </a:rPr>
                        <a:t>119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gradFill rotWithShape="0">
                      <a:gsLst>
                        <a:gs pos="0">
                          <a:srgbClr val="eeeef0"/>
                        </a:gs>
                        <a:gs pos="50000">
                          <a:srgbClr val="d0d1d6"/>
                        </a:gs>
                        <a:gs pos="100000">
                          <a:srgbClr val="eeeef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60948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Контролируйте интенсивность физической активности</a:t>
            </a:r>
            <a:r>
              <a:rPr b="1" lang="en-US" sz="3600" spc="-1" strike="noStrike">
                <a:solidFill>
                  <a:srgbClr val="c8044a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527040"/>
            <a:ext cx="8847720" cy="6330960"/>
            <a:chOff x="0" y="527040"/>
            <a:chExt cx="8847720" cy="6330960"/>
          </a:xfrm>
        </p:grpSpPr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0" y="527040"/>
              <a:ext cx="151128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1511280" y="527040"/>
              <a:ext cx="150336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3"/>
            <a:stretch/>
          </p:blipFill>
          <p:spPr>
            <a:xfrm>
              <a:off x="3014640" y="527040"/>
              <a:ext cx="150192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4"/>
            <a:stretch/>
          </p:blipFill>
          <p:spPr>
            <a:xfrm>
              <a:off x="4516560" y="527040"/>
              <a:ext cx="150336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5"/>
            <a:stretch/>
          </p:blipFill>
          <p:spPr>
            <a:xfrm>
              <a:off x="6019920" y="527040"/>
              <a:ext cx="150336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6"/>
            <a:stretch/>
          </p:blipFill>
          <p:spPr>
            <a:xfrm>
              <a:off x="7523280" y="527040"/>
              <a:ext cx="128268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7"/>
            <a:stretch/>
          </p:blipFill>
          <p:spPr>
            <a:xfrm>
              <a:off x="0" y="2274840"/>
              <a:ext cx="151128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8"/>
            <a:stretch/>
          </p:blipFill>
          <p:spPr>
            <a:xfrm>
              <a:off x="1511280" y="2274840"/>
              <a:ext cx="150336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9"/>
            <a:stretch/>
          </p:blipFill>
          <p:spPr>
            <a:xfrm>
              <a:off x="3014640" y="2274840"/>
              <a:ext cx="150192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10"/>
            <a:stretch/>
          </p:blipFill>
          <p:spPr>
            <a:xfrm>
              <a:off x="4516560" y="2274840"/>
              <a:ext cx="150336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11"/>
            <a:stretch/>
          </p:blipFill>
          <p:spPr>
            <a:xfrm>
              <a:off x="6019920" y="2274840"/>
              <a:ext cx="150336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12"/>
            <a:stretch/>
          </p:blipFill>
          <p:spPr>
            <a:xfrm>
              <a:off x="7523280" y="2274840"/>
              <a:ext cx="1282680" cy="17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13"/>
            <a:stretch/>
          </p:blipFill>
          <p:spPr>
            <a:xfrm>
              <a:off x="0" y="4021200"/>
              <a:ext cx="151128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14"/>
            <a:stretch/>
          </p:blipFill>
          <p:spPr>
            <a:xfrm>
              <a:off x="1511280" y="4021200"/>
              <a:ext cx="150336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5"/>
            <a:stretch/>
          </p:blipFill>
          <p:spPr>
            <a:xfrm>
              <a:off x="3014640" y="4021200"/>
              <a:ext cx="150192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16"/>
            <a:stretch/>
          </p:blipFill>
          <p:spPr>
            <a:xfrm>
              <a:off x="4516560" y="4021200"/>
              <a:ext cx="150336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17"/>
            <a:stretch/>
          </p:blipFill>
          <p:spPr>
            <a:xfrm>
              <a:off x="6019920" y="4021200"/>
              <a:ext cx="150336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8"/>
            <a:stretch/>
          </p:blipFill>
          <p:spPr>
            <a:xfrm>
              <a:off x="7523280" y="4021200"/>
              <a:ext cx="128268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9"/>
            <a:stretch/>
          </p:blipFill>
          <p:spPr>
            <a:xfrm>
              <a:off x="0" y="5767200"/>
              <a:ext cx="15112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20"/>
            <a:stretch/>
          </p:blipFill>
          <p:spPr>
            <a:xfrm>
              <a:off x="1511280" y="5767200"/>
              <a:ext cx="15033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1"/>
            <a:stretch/>
          </p:blipFill>
          <p:spPr>
            <a:xfrm>
              <a:off x="3014640" y="5767200"/>
              <a:ext cx="150192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22"/>
            <a:stretch/>
          </p:blipFill>
          <p:spPr>
            <a:xfrm>
              <a:off x="4516560" y="5767200"/>
              <a:ext cx="15033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23"/>
            <a:stretch/>
          </p:blipFill>
          <p:spPr>
            <a:xfrm>
              <a:off x="6019920" y="5767200"/>
              <a:ext cx="150336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24"/>
            <a:stretch/>
          </p:blipFill>
          <p:spPr>
            <a:xfrm>
              <a:off x="7523280" y="5767200"/>
              <a:ext cx="1282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527040"/>
              <a:ext cx="8823240" cy="63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47640" y="1989000"/>
              <a:ext cx="7212240" cy="637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47640" y="2052720"/>
              <a:ext cx="7212240" cy="522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47640" y="2104920"/>
              <a:ext cx="7212240" cy="63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47640" y="2168280"/>
              <a:ext cx="7212240" cy="637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47640" y="2232000"/>
              <a:ext cx="7212240" cy="5220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47640" y="2284200"/>
              <a:ext cx="7212240" cy="6372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47640" y="2347920"/>
              <a:ext cx="7212240" cy="6336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47640" y="2411280"/>
              <a:ext cx="7212240" cy="6372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47640" y="2475000"/>
              <a:ext cx="7212240" cy="5364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47640" y="2528640"/>
              <a:ext cx="7212240" cy="63720"/>
            </a:xfrm>
            <a:prstGeom prst="rect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47640" y="2592360"/>
              <a:ext cx="7212240" cy="63360"/>
            </a:xfrm>
            <a:prstGeom prst="rect">
              <a:avLst/>
            </a:pr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47640" y="2655720"/>
              <a:ext cx="7212240" cy="525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47640" y="2708280"/>
              <a:ext cx="7212240" cy="63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47640" y="2771640"/>
              <a:ext cx="7212240" cy="6372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47640" y="2835360"/>
              <a:ext cx="7212240" cy="63360"/>
            </a:xfrm>
            <a:prstGeom prst="rect">
              <a:avLst/>
            </a:pr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47640" y="2898720"/>
              <a:ext cx="7212240" cy="5220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47640" y="2950920"/>
              <a:ext cx="7212240" cy="6372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47640" y="3014640"/>
              <a:ext cx="7212240" cy="6336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47640" y="3078000"/>
              <a:ext cx="7212240" cy="63720"/>
            </a:xfrm>
            <a:prstGeom prst="rect">
              <a:avLst/>
            </a:pr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47640" y="3141720"/>
              <a:ext cx="7212240" cy="540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47640" y="3195720"/>
              <a:ext cx="7212240" cy="6336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47640" y="3259080"/>
              <a:ext cx="7212240" cy="633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47640" y="3322440"/>
              <a:ext cx="7212240" cy="5256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47640" y="3375000"/>
              <a:ext cx="7212240" cy="6336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47640" y="3438360"/>
              <a:ext cx="7212240" cy="63720"/>
            </a:xfrm>
            <a:prstGeom prst="rect">
              <a:avLst/>
            </a:pr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47640" y="3502080"/>
              <a:ext cx="7212240" cy="52200"/>
            </a:xfrm>
            <a:prstGeom prst="rect">
              <a:avLst/>
            </a:prstGeom>
            <a:solidFill>
              <a:srgbClr val="ad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47640" y="3554280"/>
              <a:ext cx="7212240" cy="6372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47640" y="3618000"/>
              <a:ext cx="7212240" cy="6480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47640" y="3682800"/>
              <a:ext cx="7212240" cy="63720"/>
            </a:xfrm>
            <a:prstGeom prst="rect">
              <a:avLst/>
            </a:pr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47640" y="3746520"/>
              <a:ext cx="7212240" cy="52200"/>
            </a:xfrm>
            <a:prstGeom prst="rect">
              <a:avLst/>
            </a:prstGeom>
            <a:solidFill>
              <a:srgbClr val="a7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47640" y="3798720"/>
              <a:ext cx="7212240" cy="63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7640" y="3862440"/>
              <a:ext cx="7212240" cy="633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47640" y="3925800"/>
              <a:ext cx="7212240" cy="525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47640" y="3978360"/>
              <a:ext cx="7212240" cy="633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47640" y="4041720"/>
              <a:ext cx="7212240" cy="633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47640" y="4105080"/>
              <a:ext cx="7212240" cy="637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47640" y="4168800"/>
              <a:ext cx="7212240" cy="5400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47640" y="4222800"/>
              <a:ext cx="7212240" cy="633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47640" y="4286160"/>
              <a:ext cx="7212240" cy="633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47640" y="4349520"/>
              <a:ext cx="7212240" cy="63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47640" y="4413240"/>
              <a:ext cx="7212240" cy="52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47640" y="4465440"/>
              <a:ext cx="7212240" cy="63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47640" y="4529160"/>
              <a:ext cx="7212240" cy="633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547640" y="4592520"/>
              <a:ext cx="7212240" cy="52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47640" y="4645080"/>
              <a:ext cx="7212240" cy="633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47640" y="4708440"/>
              <a:ext cx="7212240" cy="633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47640" y="4771800"/>
              <a:ext cx="7212240" cy="54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47640" y="4825800"/>
              <a:ext cx="7212240" cy="63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47640" y="4889520"/>
              <a:ext cx="7212240" cy="63360"/>
            </a:xfrm>
            <a:prstGeom prst="rect">
              <a:avLst/>
            </a:pr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47640" y="4952880"/>
              <a:ext cx="7212240" cy="52560"/>
            </a:xfrm>
            <a:prstGeom prst="rect">
              <a:avLst/>
            </a:prstGeom>
            <a:solidFill>
              <a:srgbClr val="8a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47640" y="5005440"/>
              <a:ext cx="7212240" cy="633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47640" y="5068800"/>
              <a:ext cx="7212240" cy="633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47640" y="5132160"/>
              <a:ext cx="7212240" cy="637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47640" y="5195880"/>
              <a:ext cx="7212240" cy="633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47640" y="5259240"/>
              <a:ext cx="7212240" cy="525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547640" y="5311800"/>
              <a:ext cx="7212240" cy="63360"/>
            </a:xfrm>
            <a:prstGeom prst="rect">
              <a:avLst/>
            </a:prstGeom>
            <a:solidFill>
              <a:srgbClr val="84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47640" y="5375160"/>
              <a:ext cx="7212240" cy="63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47640" y="5438880"/>
              <a:ext cx="7212240" cy="536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47640" y="5492520"/>
              <a:ext cx="7212240" cy="63720"/>
            </a:xfrm>
            <a:prstGeom prst="rect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47640" y="5556240"/>
              <a:ext cx="7212240" cy="63360"/>
            </a:xfrm>
            <a:prstGeom prst="rect">
              <a:avLst/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47640" y="5619600"/>
              <a:ext cx="7212240" cy="6372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47640" y="5683320"/>
              <a:ext cx="7212240" cy="5220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47640" y="5735520"/>
              <a:ext cx="7212240" cy="63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47640" y="5799240"/>
              <a:ext cx="7212240" cy="63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47640" y="5862600"/>
              <a:ext cx="721224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47640" y="1989000"/>
              <a:ext cx="7212240" cy="39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47640" y="591660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547640" y="548172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47640" y="504828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47640" y="4613040"/>
              <a:ext cx="721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47640" y="416880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547640" y="373536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47640" y="330048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47640" y="286704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47640" y="2422440"/>
              <a:ext cx="72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547640" y="1989000"/>
              <a:ext cx="721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47640" y="1989000"/>
              <a:ext cx="7212240" cy="39276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47640" y="1989000"/>
              <a:ext cx="1800" cy="3927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74920" y="591660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74920" y="548172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74920" y="504828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74920" y="4613040"/>
              <a:ext cx="7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74920" y="416880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74920" y="373536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74920" y="330048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74920" y="286704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74920" y="242244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74920" y="1989000"/>
              <a:ext cx="7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96920" y="3513240"/>
              <a:ext cx="5407200" cy="718920"/>
            </a:xfrm>
            <a:custGeom>
              <a:avLst/>
              <a:gdLst/>
              <a:ahLst/>
              <a:rect l="l" t="t" r="r" b="b"/>
              <a:pathLst>
                <a:path w="590" h="68">
                  <a:moveTo>
                    <a:pt x="0" y="0"/>
                  </a:moveTo>
                  <a:lnTo>
                    <a:pt x="99" y="11"/>
                  </a:lnTo>
                  <a:lnTo>
                    <a:pt x="197" y="23"/>
                  </a:lnTo>
                  <a:lnTo>
                    <a:pt x="295" y="33"/>
                  </a:lnTo>
                  <a:lnTo>
                    <a:pt x="394" y="46"/>
                  </a:lnTo>
                  <a:lnTo>
                    <a:pt x="492" y="56"/>
                  </a:lnTo>
                  <a:lnTo>
                    <a:pt x="590" y="68"/>
                  </a:lnTo>
                </a:path>
              </a:pathLst>
            </a:custGeom>
            <a:noFill/>
            <a:ln w="36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96920" y="2867040"/>
              <a:ext cx="5407200" cy="911160"/>
            </a:xfrm>
            <a:custGeom>
              <a:avLst/>
              <a:gdLst/>
              <a:ahLst/>
              <a:rect l="l" t="t" r="r" b="b"/>
              <a:pathLst>
                <a:path w="590" h="86">
                  <a:moveTo>
                    <a:pt x="0" y="0"/>
                  </a:moveTo>
                  <a:lnTo>
                    <a:pt x="99" y="14"/>
                  </a:lnTo>
                  <a:lnTo>
                    <a:pt x="197" y="28"/>
                  </a:lnTo>
                  <a:lnTo>
                    <a:pt x="295" y="43"/>
                  </a:lnTo>
                  <a:lnTo>
                    <a:pt x="394" y="57"/>
                  </a:lnTo>
                  <a:lnTo>
                    <a:pt x="492" y="72"/>
                  </a:lnTo>
                  <a:lnTo>
                    <a:pt x="590" y="86"/>
                  </a:lnTo>
                </a:path>
              </a:pathLst>
            </a:custGeom>
            <a:noFill/>
            <a:ln w="36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96920" y="2200320"/>
              <a:ext cx="5407200" cy="1122120"/>
            </a:xfrm>
            <a:custGeom>
              <a:avLst/>
              <a:gdLst/>
              <a:ahLst/>
              <a:rect l="l" t="t" r="r" b="b"/>
              <a:pathLst>
                <a:path w="590" h="106">
                  <a:moveTo>
                    <a:pt x="0" y="0"/>
                  </a:moveTo>
                  <a:lnTo>
                    <a:pt x="99" y="15"/>
                  </a:lnTo>
                  <a:lnTo>
                    <a:pt x="197" y="35"/>
                  </a:lnTo>
                  <a:lnTo>
                    <a:pt x="295" y="52"/>
                  </a:lnTo>
                  <a:lnTo>
                    <a:pt x="394" y="71"/>
                  </a:lnTo>
                  <a:lnTo>
                    <a:pt x="492" y="87"/>
                  </a:lnTo>
                  <a:lnTo>
                    <a:pt x="590" y="106"/>
                  </a:lnTo>
                </a:path>
              </a:pathLst>
            </a:custGeom>
            <a:noFill/>
            <a:ln w="36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23840" y="342720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46" y="0"/>
                  </a:moveTo>
                  <a:lnTo>
                    <a:pt x="92" y="54"/>
                  </a:lnTo>
                  <a:lnTo>
                    <a:pt x="46" y="107"/>
                  </a:lnTo>
                  <a:lnTo>
                    <a:pt x="0" y="5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30320" y="3544920"/>
              <a:ext cx="147960" cy="16992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47" y="0"/>
                  </a:moveTo>
                  <a:lnTo>
                    <a:pt x="93" y="53"/>
                  </a:lnTo>
                  <a:lnTo>
                    <a:pt x="47" y="107"/>
                  </a:lnTo>
                  <a:lnTo>
                    <a:pt x="0" y="5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28880" y="367164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46" y="0"/>
                  </a:moveTo>
                  <a:lnTo>
                    <a:pt x="92" y="53"/>
                  </a:lnTo>
                  <a:lnTo>
                    <a:pt x="46" y="107"/>
                  </a:lnTo>
                  <a:lnTo>
                    <a:pt x="0" y="5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27440" y="3778200"/>
              <a:ext cx="146160" cy="168120"/>
            </a:xfrm>
            <a:custGeom>
              <a:avLst/>
              <a:gdLst/>
              <a:ahLst/>
              <a:rect l="l" t="t" r="r" b="b"/>
              <a:pathLst>
                <a:path w="92" h="106">
                  <a:moveTo>
                    <a:pt x="46" y="0"/>
                  </a:moveTo>
                  <a:lnTo>
                    <a:pt x="92" y="53"/>
                  </a:lnTo>
                  <a:lnTo>
                    <a:pt x="46" y="106"/>
                  </a:lnTo>
                  <a:lnTo>
                    <a:pt x="0" y="5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33920" y="391464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46" y="0"/>
                  </a:moveTo>
                  <a:lnTo>
                    <a:pt x="92" y="54"/>
                  </a:lnTo>
                  <a:lnTo>
                    <a:pt x="46" y="107"/>
                  </a:lnTo>
                  <a:lnTo>
                    <a:pt x="0" y="5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32480" y="4021200"/>
              <a:ext cx="146160" cy="16956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46" y="0"/>
                  </a:moveTo>
                  <a:lnTo>
                    <a:pt x="92" y="53"/>
                  </a:lnTo>
                  <a:lnTo>
                    <a:pt x="46" y="107"/>
                  </a:lnTo>
                  <a:lnTo>
                    <a:pt x="0" y="5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29600" y="4147920"/>
              <a:ext cx="147600" cy="179640"/>
            </a:xfrm>
            <a:custGeom>
              <a:avLst/>
              <a:gdLst/>
              <a:ahLst/>
              <a:rect l="l" t="t" r="r" b="b"/>
              <a:pathLst>
                <a:path w="93" h="113">
                  <a:moveTo>
                    <a:pt x="47" y="0"/>
                  </a:moveTo>
                  <a:lnTo>
                    <a:pt x="93" y="53"/>
                  </a:lnTo>
                  <a:lnTo>
                    <a:pt x="47" y="113"/>
                  </a:lnTo>
                  <a:lnTo>
                    <a:pt x="0" y="53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3840" y="2771640"/>
              <a:ext cx="15588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46" y="0"/>
                  </a:moveTo>
                  <a:lnTo>
                    <a:pt x="98" y="113"/>
                  </a:lnTo>
                  <a:lnTo>
                    <a:pt x="0" y="11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22400" y="2919240"/>
              <a:ext cx="155880" cy="190440"/>
            </a:xfrm>
            <a:custGeom>
              <a:avLst/>
              <a:gdLst/>
              <a:ahLst/>
              <a:rect l="l" t="t" r="r" b="b"/>
              <a:pathLst>
                <a:path w="98" h="120">
                  <a:moveTo>
                    <a:pt x="52" y="0"/>
                  </a:moveTo>
                  <a:lnTo>
                    <a:pt x="98" y="120"/>
                  </a:lnTo>
                  <a:lnTo>
                    <a:pt x="0" y="12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19520" y="3078000"/>
              <a:ext cx="164880" cy="181080"/>
            </a:xfrm>
            <a:custGeom>
              <a:avLst/>
              <a:gdLst/>
              <a:ahLst/>
              <a:rect l="l" t="t" r="r" b="b"/>
              <a:pathLst>
                <a:path w="104" h="114">
                  <a:moveTo>
                    <a:pt x="52" y="0"/>
                  </a:moveTo>
                  <a:lnTo>
                    <a:pt x="104" y="114"/>
                  </a:lnTo>
                  <a:lnTo>
                    <a:pt x="0" y="1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27440" y="322740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46" y="0"/>
                  </a:moveTo>
                  <a:lnTo>
                    <a:pt x="98" y="113"/>
                  </a:lnTo>
                  <a:lnTo>
                    <a:pt x="0" y="11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24560" y="3375000"/>
              <a:ext cx="155520" cy="190440"/>
            </a:xfrm>
            <a:custGeom>
              <a:avLst/>
              <a:gdLst/>
              <a:ahLst/>
              <a:rect l="l" t="t" r="r" b="b"/>
              <a:pathLst>
                <a:path w="98" h="120">
                  <a:moveTo>
                    <a:pt x="52" y="0"/>
                  </a:moveTo>
                  <a:lnTo>
                    <a:pt x="98" y="120"/>
                  </a:lnTo>
                  <a:lnTo>
                    <a:pt x="0" y="12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3120" y="3533760"/>
              <a:ext cx="164880" cy="181080"/>
            </a:xfrm>
            <a:custGeom>
              <a:avLst/>
              <a:gdLst/>
              <a:ahLst/>
              <a:rect l="l" t="t" r="r" b="b"/>
              <a:pathLst>
                <a:path w="104" h="114">
                  <a:moveTo>
                    <a:pt x="52" y="0"/>
                  </a:moveTo>
                  <a:lnTo>
                    <a:pt x="104" y="114"/>
                  </a:lnTo>
                  <a:lnTo>
                    <a:pt x="0" y="1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9600" y="3682800"/>
              <a:ext cx="155520" cy="190800"/>
            </a:xfrm>
            <a:custGeom>
              <a:avLst/>
              <a:gdLst/>
              <a:ahLst/>
              <a:rect l="l" t="t" r="r" b="b"/>
              <a:pathLst>
                <a:path w="98" h="120">
                  <a:moveTo>
                    <a:pt x="47" y="0"/>
                  </a:moveTo>
                  <a:lnTo>
                    <a:pt x="98" y="120"/>
                  </a:lnTo>
                  <a:lnTo>
                    <a:pt x="0" y="12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14480" y="2104920"/>
              <a:ext cx="184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996920" y="2116080"/>
              <a:ext cx="1800" cy="84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96920" y="2200320"/>
              <a:ext cx="1800" cy="9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923480" y="2200320"/>
              <a:ext cx="7308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96920" y="2200320"/>
              <a:ext cx="8280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22400" y="2263680"/>
              <a:ext cx="1731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905200" y="2263320"/>
              <a:ext cx="1440" cy="9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905200" y="2359080"/>
              <a:ext cx="1440" cy="9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822400" y="2359080"/>
              <a:ext cx="8280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05200" y="2359080"/>
              <a:ext cx="7308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19520" y="2475000"/>
              <a:ext cx="1746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01960" y="2485800"/>
              <a:ext cx="1800" cy="84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01960" y="2570040"/>
              <a:ext cx="1800" cy="9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719160" y="2570040"/>
              <a:ext cx="824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1960" y="2570040"/>
              <a:ext cx="824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18080" y="2655720"/>
              <a:ext cx="1825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700520" y="2665440"/>
              <a:ext cx="1440" cy="85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00520" y="2751120"/>
              <a:ext cx="1440" cy="9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627080" y="2751120"/>
              <a:ext cx="7308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00520" y="2751120"/>
              <a:ext cx="8244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24560" y="2855880"/>
              <a:ext cx="174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07000" y="2855880"/>
              <a:ext cx="1440" cy="9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07000" y="2950920"/>
              <a:ext cx="1440" cy="8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5524200" y="2950920"/>
              <a:ext cx="824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07000" y="2950920"/>
              <a:ext cx="7308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23120" y="3025800"/>
              <a:ext cx="1746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505560" y="3036600"/>
              <a:ext cx="1440" cy="83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05560" y="3120840"/>
              <a:ext cx="1440" cy="9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422760" y="3120840"/>
              <a:ext cx="824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05560" y="3120840"/>
              <a:ext cx="824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21680" y="3227400"/>
              <a:ext cx="1825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4120" y="3227400"/>
              <a:ext cx="1440" cy="9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4120" y="3322440"/>
              <a:ext cx="1440" cy="84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329240" y="3322440"/>
              <a:ext cx="745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04120" y="3322440"/>
              <a:ext cx="8100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09720" y="728640"/>
              <a:ext cx="7840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Интенсивность физических упражнений в зависимости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73720" y="1089000"/>
              <a:ext cx="1640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т возраста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26880" y="575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90440" y="532296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90440" y="487836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90440" y="444492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90440" y="40100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52560" y="356544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952560" y="313200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52560" y="269712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952560" y="22636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52560" y="1819080"/>
              <a:ext cx="466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64160" y="6234120"/>
              <a:ext cx="113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Возраст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6200000">
              <a:off x="-979200" y="3750120"/>
              <a:ext cx="280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Частота сердечных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6200000">
              <a:off x="-507600" y="3405600"/>
              <a:ext cx="2472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окращений, мин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60480" y="5916600"/>
              <a:ext cx="5493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96920" y="59896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03600" y="5979960"/>
              <a:ext cx="430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76320" y="601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7000" y="5979960"/>
              <a:ext cx="4204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09720" y="601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98920" y="5979960"/>
              <a:ext cx="4399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81360" y="601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69040" y="5979960"/>
              <a:ext cx="430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41760" y="601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76960" y="5979960"/>
              <a:ext cx="430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49680" y="601164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00920" y="5979960"/>
              <a:ext cx="8506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81920" y="6011640"/>
              <a:ext cx="78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80лет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09960" y="2422440"/>
              <a:ext cx="31435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13520" y="2454120"/>
              <a:ext cx="286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Значительная  (85%)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46800" y="3259080"/>
              <a:ext cx="150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29240" y="3322440"/>
              <a:ext cx="151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51880" y="3671640"/>
              <a:ext cx="745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70%)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76880" y="4232160"/>
              <a:ext cx="18604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336760" y="1576440"/>
            <a:ext cx="6735240" cy="2991240"/>
            <a:chOff x="2336760" y="1576440"/>
            <a:chExt cx="6735240" cy="2991240"/>
          </a:xfrm>
        </p:grpSpPr>
        <p:sp>
          <p:nvSpPr>
            <p:cNvPr id="638" name=""/>
            <p:cNvSpPr/>
            <p:nvPr/>
          </p:nvSpPr>
          <p:spPr>
            <a:xfrm>
              <a:off x="5745600" y="4232160"/>
              <a:ext cx="2259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изкая  (55%)     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03560" y="1830240"/>
              <a:ext cx="228600" cy="168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865760" y="2157480"/>
              <a:ext cx="228600" cy="18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059280" y="1660680"/>
              <a:ext cx="230040" cy="179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62520" y="2327400"/>
              <a:ext cx="238320" cy="179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88080" y="2708280"/>
              <a:ext cx="228600" cy="179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33920" y="1576440"/>
              <a:ext cx="34178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32040" y="1617840"/>
              <a:ext cx="3639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аксимально допустимая</a:t>
              </a:r>
              <a:endParaRPr b="0" lang="en-US" sz="2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336760" y="215748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36760" y="2168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36760" y="21891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36760" y="2211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36760" y="22320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36760" y="2252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36760" y="2274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36760" y="2295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36760" y="23162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36760" y="23385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36760" y="23590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36760" y="2379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36760" y="2401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6760" y="2422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36760" y="2443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36760" y="245412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36760" y="247500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36760" y="249696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36760" y="25178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36760" y="2538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36760" y="2560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336760" y="2581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36760" y="26020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36760" y="2624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6760" y="2644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36760" y="2665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36760" y="2687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36760" y="27082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36760" y="2728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36760" y="273996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36760" y="276084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36760" y="278280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36760" y="28036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36760" y="2824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36760" y="28465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36760" y="2867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36760" y="28875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36760" y="2909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36760" y="29304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36760" y="29512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36760" y="29732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36760" y="2994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36760" y="3014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36760" y="302580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36760" y="304632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36760" y="30686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6760" y="308916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36760" y="311004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336760" y="31320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36760" y="31528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36760" y="31734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3676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36760" y="32162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36760" y="3236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3676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6760" y="3279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36760" y="33004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6760" y="3322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336760" y="33321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36760" y="33544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336760" y="337500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36760" y="339552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36760" y="3417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36760" y="3438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36760" y="34592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84920" y="270828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84920" y="27194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84920" y="2739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84920" y="276084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84920" y="27828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84920" y="28036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84920" y="2824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84920" y="28465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984920" y="2867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84920" y="28875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84920" y="29098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84920" y="29304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84920" y="294156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84920" y="29624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84920" y="29829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984920" y="300528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84920" y="3025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984920" y="3046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84920" y="30686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84920" y="30891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84920" y="3110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84920" y="31320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84920" y="31528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84920" y="31734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84920" y="3195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84920" y="32162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84920" y="322740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84920" y="324792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84920" y="326880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84920" y="329076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84920" y="3311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84920" y="33321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84920" y="33544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84920" y="33750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84920" y="3395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84920" y="34178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84920" y="3438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84920" y="34592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84920" y="34815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84920" y="35020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4920" y="35132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84920" y="353376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84920" y="355428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84920" y="357660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84920" y="3597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84920" y="36180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984920" y="3639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984920" y="3660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84920" y="3683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84920" y="3703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84920" y="3724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4920" y="37465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84920" y="37670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84920" y="3787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84920" y="3809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4920" y="381960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84920" y="384192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84920" y="386244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84920" y="3882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84920" y="39052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84920" y="39258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076640" y="24861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76640" y="2506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76640" y="25290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076640" y="2549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076640" y="2570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76640" y="25923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76640" y="2612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76640" y="2633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76640" y="264492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76640" y="266544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76640" y="268776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076640" y="27082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76640" y="27288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076640" y="2751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76640" y="2771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076640" y="2792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76640" y="2814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76640" y="2835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076640" y="2855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76640" y="28782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76640" y="2898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76640" y="29192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76640" y="29304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76640" y="2951280"/>
              <a:ext cx="9720" cy="219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76640" y="297324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076640" y="299412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076640" y="3014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076640" y="3036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076640" y="3057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6640" y="30780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076640" y="31003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76640" y="312120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76640" y="3141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76640" y="316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76640" y="3184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76640" y="32050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76640" y="32274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76640" y="323676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76640" y="325908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076640" y="32796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076640" y="330048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076640" y="3322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76640" y="3343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76640" y="33638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76640" y="33861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76640" y="3406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076640" y="34275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076640" y="3449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76640" y="3470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76640" y="3490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76640" y="3513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76640" y="352260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76640" y="3544920"/>
              <a:ext cx="972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76640" y="356544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076640" y="3586320"/>
              <a:ext cx="9720" cy="219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76640" y="36082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76640" y="36291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76640" y="3651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76640" y="36720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76640" y="3692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76640" y="37148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76640" y="3735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076640" y="3755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076640" y="3778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76640" y="3798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151080" y="2306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747880" y="2232000"/>
            <a:ext cx="4938840" cy="1968480"/>
            <a:chOff x="2747880" y="2232000"/>
            <a:chExt cx="4938840" cy="1968480"/>
          </a:xfrm>
        </p:grpSpPr>
        <p:sp>
          <p:nvSpPr>
            <p:cNvPr id="839" name=""/>
            <p:cNvSpPr/>
            <p:nvPr/>
          </p:nvSpPr>
          <p:spPr>
            <a:xfrm>
              <a:off x="3151080" y="2327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51080" y="234792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51080" y="23590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51080" y="23796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51080" y="24019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51080" y="24224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51080" y="24433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51080" y="24652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151080" y="24861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51080" y="2506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51080" y="25290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51080" y="2549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51080" y="2570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151080" y="25923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51080" y="2612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1080" y="2633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51080" y="26449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51080" y="26654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51080" y="26877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51080" y="27082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51080" y="27288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151080" y="2751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1080" y="2771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51080" y="2792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51080" y="28144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51080" y="2835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51080" y="2855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51080" y="28782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151080" y="2898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51080" y="29192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51080" y="2930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51080" y="29512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51080" y="29732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51080" y="2994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51080" y="3014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151080" y="3036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51080" y="3057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51080" y="30780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51080" y="31003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51080" y="312120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51080" y="3141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51080" y="316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51080" y="3184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51080" y="32050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51080" y="32274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51080" y="3236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51080" y="32590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51080" y="32796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51080" y="33004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3322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151080" y="3343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51080" y="33638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51080" y="33861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51080" y="3406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51080" y="34275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51080" y="3449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51080" y="3470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151080" y="3490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51080" y="351324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51080" y="35226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51080" y="354492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51080" y="35654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151080" y="358632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51080" y="36082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47880" y="22320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47880" y="225252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47880" y="22636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47880" y="22845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747880" y="2306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47880" y="2327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47880" y="2347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47880" y="2370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47880" y="2390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47880" y="24112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47880" y="24336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7880" y="2454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47880" y="24750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47880" y="24969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47880" y="25178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7880" y="25383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7880" y="2549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47880" y="2570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47880" y="25923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47880" y="2612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47880" y="2633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47880" y="26557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47880" y="26766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747880" y="26971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47880" y="27194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747880" y="27399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47880" y="27608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747880" y="27828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747880" y="280368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47880" y="28242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7880" y="28353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747880" y="28558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747880" y="28782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47880" y="2898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47880" y="29192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47880" y="29415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47880" y="29624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47880" y="29829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7880" y="30052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47880" y="30258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47880" y="30463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47880" y="30686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747880" y="30891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747880" y="31100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47880" y="313200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747880" y="3141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747880" y="31640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47880" y="31845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47880" y="320508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47880" y="32274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747880" y="3247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747880" y="326880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747880" y="3290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47880" y="3311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47880" y="33321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47880" y="335448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47880" y="33750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47880" y="33955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7880" y="34178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747880" y="342756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47880" y="34495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747880" y="347040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47880" y="3490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47880" y="351324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47880" y="353376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78800" y="3322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78800" y="3343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78800" y="3363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78800" y="338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78800" y="3406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8800" y="34275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78800" y="3449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78800" y="34704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78800" y="3490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678800" y="35132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78800" y="352260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678800" y="354492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78800" y="35654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78800" y="358632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678800" y="3608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678800" y="36291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78800" y="3651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678800" y="36720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78800" y="3692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78800" y="3714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78800" y="3735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678800" y="37558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678800" y="3778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678800" y="3798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78800" y="380988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78800" y="383076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78800" y="385128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678800" y="387360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7880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78800" y="3914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78800" y="39369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78800" y="39574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78800" y="3978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678800" y="4000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678800" y="4021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78800" y="4041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678800" y="4064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678800" y="40845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78800" y="409572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678800" y="411624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78800" y="413712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78800" y="4159080"/>
              <a:ext cx="7920" cy="208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78800" y="4179960"/>
              <a:ext cx="792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89600" y="3141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89600" y="3164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89600" y="31845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89600" y="32050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89600" y="322740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89600" y="3236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789600" y="32590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789600" y="3279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789600" y="33004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89600" y="33228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89600" y="3343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89600" y="3363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89600" y="33861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89600" y="3406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89600" y="34275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789600" y="34495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89600" y="34704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89600" y="3490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89600" y="351324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789600" y="35226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789600" y="3544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9600" y="3565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89600" y="3586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89600" y="36082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89600" y="36291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89600" y="36511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89600" y="36720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89600" y="36925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3637080" y="2379600"/>
            <a:ext cx="3160440" cy="1811520"/>
            <a:chOff x="3637080" y="2379600"/>
            <a:chExt cx="3160440" cy="1811520"/>
          </a:xfrm>
        </p:grpSpPr>
        <p:sp>
          <p:nvSpPr>
            <p:cNvPr id="1040" name=""/>
            <p:cNvSpPr/>
            <p:nvPr/>
          </p:nvSpPr>
          <p:spPr>
            <a:xfrm>
              <a:off x="6789600" y="3714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89600" y="3735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89600" y="37558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789600" y="377820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89600" y="3798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789600" y="38098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789600" y="3830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789600" y="38512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89600" y="387360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8960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89600" y="39146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789600" y="393696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789600" y="39574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789600" y="39783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789600" y="400068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89600" y="402120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789600" y="40417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789600" y="40640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789600" y="40845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789600" y="409572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789600" y="41162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89600" y="41371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89600" y="41590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6"/>
                  </a:moveTo>
                  <a:lnTo>
                    <a:pt x="5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789600" y="41799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7"/>
                  </a:moveTo>
                  <a:lnTo>
                    <a:pt x="5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72320" y="2867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72320" y="28875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72320" y="29098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72320" y="2930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72320" y="2951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72320" y="2973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72320" y="2994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872320" y="301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872320" y="30258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872320" y="3046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872320" y="30686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72320" y="30891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72320" y="3110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72320" y="313200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872320" y="31528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872320" y="3173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72320" y="3195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72320" y="32162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72320" y="3236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72320" y="3259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72320" y="3279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2320" y="3300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72320" y="332280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72320" y="33321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72320" y="33544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72320" y="33750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872320" y="3395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872320" y="3417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872320" y="34383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872320" y="34592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872320" y="34815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72320" y="3502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72320" y="3522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872320" y="35449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872320" y="356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872320" y="35863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72320" y="3608280"/>
              <a:ext cx="93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72320" y="36180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872320" y="36399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872320" y="36608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872320" y="3683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72320" y="3703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72320" y="37242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72320" y="3746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72320" y="37670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72320" y="37879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72320" y="38098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72320" y="3830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872320" y="3851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872320" y="3873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872320" y="3894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872320" y="39052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872320" y="39258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37080" y="2379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37080" y="24019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37080" y="2422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37080" y="24433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37080" y="24652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637080" y="24861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37080" y="2506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37080" y="25290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37080" y="253836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37080" y="25606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37080" y="25812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37080" y="2602080"/>
              <a:ext cx="9360" cy="219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637080" y="2624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637080" y="26449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7080" y="266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637080" y="26877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637080" y="2708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637080" y="27288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37080" y="2751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37080" y="2771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637080" y="2792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080" y="28144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37080" y="28353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37080" y="28465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37080" y="28670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37080" y="288756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37080" y="2909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37080" y="2930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637080" y="2951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37080" y="2973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637080" y="2994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637080" y="301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37080" y="3036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37080" y="3057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37080" y="30780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637080" y="310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637080" y="312120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637080" y="31320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637080" y="31528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637080" y="3173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37080" y="3195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637080" y="32162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37080" y="3236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637080" y="3259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637080" y="3279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37080" y="3300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37080" y="3322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37080" y="3343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37080" y="33638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37080" y="3386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637080" y="3406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37080" y="34178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37080" y="34383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37080" y="34592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637080" y="34815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37080" y="3502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37080" y="3522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37080" y="35449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37080" y="356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080" y="35863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637080" y="36082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637080" y="36291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37080" y="3651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637080" y="36720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637080" y="3692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451480" y="2792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51480" y="28144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451480" y="283536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51480" y="28465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51480" y="28670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51480" y="288756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51480" y="2909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451480" y="29304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51480" y="2951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451480" y="2973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51480" y="2994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51480" y="301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51480" y="3036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451480" y="3057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51480" y="30780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51480" y="310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51480" y="312120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451480" y="313200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451480" y="315288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51480" y="317340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51480" y="31957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51480" y="32162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51480" y="3236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51480" y="32590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51480" y="3279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51480" y="33004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451480" y="33228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451480" y="3343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51480" y="33638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51480" y="33861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451480" y="34066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51480" y="3417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51480" y="343836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51480" y="345924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51480" y="348156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51480" y="35020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51480" y="3522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51480" y="35449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51480" y="35654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51480" y="358632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51480" y="36082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51480" y="36291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51480" y="36511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51480" y="36720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51480" y="3692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51480" y="371484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51480" y="372420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51480" y="374652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451480" y="376704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51480" y="3787920"/>
              <a:ext cx="9360" cy="219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6" y="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51480" y="380988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51480" y="3830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51480" y="385128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51480" y="387360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451480" y="38941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51480" y="391464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451480" y="39369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16560" y="26240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4516560" y="26449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516560" y="265572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16560" y="26766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16560" y="269712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516560" y="271944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16560" y="27399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516560" y="2760840"/>
            <a:ext cx="936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516560" y="27828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6560" y="2803680"/>
            <a:ext cx="936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516560" y="28242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16560" y="28465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516560" y="28670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16560" y="28875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16560" y="29098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516560" y="29304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516560" y="2941560"/>
            <a:ext cx="936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516560" y="296244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516560" y="298296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16560" y="300528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516560" y="30258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516560" y="304632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16560" y="306864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516560" y="30891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16560" y="31100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16560" y="313200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516560" y="315288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516560" y="31734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516560" y="31957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516560" y="32162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516560" y="322740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16560" y="3247920"/>
            <a:ext cx="936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516560" y="3268800"/>
            <a:ext cx="9360" cy="2196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516560" y="3290760"/>
            <a:ext cx="936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516560" y="33116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16560" y="33321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516560" y="33544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516560" y="33750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16560" y="339552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516560" y="341784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16560" y="34383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516560" y="34592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516560" y="34815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16560" y="350208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16560" y="351324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16560" y="35337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516560" y="3554280"/>
            <a:ext cx="936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516560" y="357660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516560" y="359712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16560" y="36180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16560" y="363996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16560" y="36608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516560" y="368316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16560" y="370368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16560" y="372420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516560" y="37465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516560" y="37670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16560" y="3787920"/>
            <a:ext cx="936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16560" y="3809880"/>
            <a:ext cx="936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40320" y="297324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40320" y="29941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40320" y="30146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40320" y="30369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40320" y="30574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340320" y="30780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340320" y="31003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40320" y="312120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40320" y="3132000"/>
            <a:ext cx="972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340320" y="315288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340320" y="317340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40320" y="319572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340320" y="32162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340320" y="3236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40320" y="32590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340320" y="32796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340320" y="33004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340320" y="33228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40320" y="33433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340320" y="33638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340320" y="33861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340320" y="34066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340320" y="341784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340320" y="3438360"/>
            <a:ext cx="972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40320" y="345924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340320" y="348156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40320" y="35020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340320" y="35226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340320" y="354492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340320" y="35654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340320" y="358632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340320" y="36082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340320" y="362916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340320" y="36511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340320" y="36720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340320" y="36925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340320" y="371484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340320" y="372420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340320" y="374652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340320" y="3767040"/>
            <a:ext cx="972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40320" y="3787920"/>
            <a:ext cx="9720" cy="2196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340320" y="38098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340320" y="3830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340320" y="38512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340320" y="38736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340320" y="38941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40320" y="39146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40320" y="393696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340320" y="39574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340320" y="39783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340320" y="400068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40320" y="401004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340320" y="40323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265880" y="32162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65880" y="3236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265880" y="32590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65880" y="32796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265880" y="33004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65880" y="33228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265880" y="333216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265880" y="335448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6" y="0"/>
                </a:ln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13"/>
                </a:lnTo>
                <a:lnTo>
                  <a:pt x="6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265880" y="337500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lnTo>
                  <a:pt x="6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265880" y="339552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65880" y="341784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65880" y="34383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265880" y="34592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265880" y="34815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265880" y="35020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65880" y="35226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265880" y="354492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265880" y="35654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65880" y="358632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65880" y="36082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65880" y="3618000"/>
            <a:ext cx="9720" cy="2196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265880" y="3639960"/>
            <a:ext cx="972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lnTo>
                  <a:pt x="6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265880" y="366084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265880" y="368316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6" y="0"/>
                </a:ln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13"/>
                </a:lnTo>
                <a:lnTo>
                  <a:pt x="6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265880" y="37036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265880" y="37242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265880" y="374652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265880" y="37670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265880" y="3787920"/>
            <a:ext cx="9720" cy="1080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265880" y="380988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265880" y="383076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265880" y="38512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265880" y="38736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65880" y="38941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265880" y="390528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6" y="0"/>
                </a:ln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13"/>
                </a:lnTo>
                <a:lnTo>
                  <a:pt x="6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265880" y="3925800"/>
            <a:ext cx="972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3"/>
                </a:lnTo>
                <a:lnTo>
                  <a:pt x="6" y="13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265880" y="3946680"/>
            <a:ext cx="9720" cy="2196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265880" y="3968640"/>
            <a:ext cx="9720" cy="2088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6"/>
                </a:moveTo>
                <a:lnTo>
                  <a:pt x="6" y="0"/>
                </a:lnTo>
                <a:lnTo>
                  <a:pt x="6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13"/>
                </a:lnTo>
                <a:lnTo>
                  <a:pt x="6" y="13"/>
                </a:lnTo>
                <a:lnTo>
                  <a:pt x="6" y="6"/>
                </a:lnTo>
                <a:lnTo>
                  <a:pt x="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265880" y="398952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265880" y="401004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265880" y="40323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265880" y="405288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265880" y="4073400"/>
            <a:ext cx="972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265880" y="4095720"/>
            <a:ext cx="9720" cy="972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265880" y="411624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lnTo>
                  <a:pt x="11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44a"/>
                </a:solidFill>
                <a:latin typeface="Arial"/>
              </a:rPr>
              <a:t>Надо знать,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к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а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  построить  занятие по повышению физической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активности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Каждая оздоровительная тренировка должна состоять из трёх фа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b2b2b2"/>
                </a:solidFill>
                <a:uFillTx/>
                <a:latin typeface="Arial"/>
                <a:ea typeface="Arial"/>
              </a:rPr>
              <a:t>1</a:t>
            </a:r>
            <a:r>
              <a:rPr b="1" lang="ru-RU" sz="2000" spc="-1" strike="noStrike" u="sng">
                <a:solidFill>
                  <a:srgbClr val="c8044a"/>
                </a:solidFill>
                <a:uFillTx/>
                <a:latin typeface="Arial"/>
                <a:ea typeface="Arial"/>
              </a:rPr>
              <a:t>. Разминочная часть</a:t>
            </a:r>
            <a:r>
              <a:rPr b="1" lang="ru-RU" sz="2000" spc="-1" strike="noStrike">
                <a:solidFill>
                  <a:srgbClr val="c8044a"/>
                </a:solidFill>
                <a:latin typeface="Arial"/>
                <a:ea typeface="Arial"/>
              </a:rPr>
              <a:t> занятия</a:t>
            </a:r>
            <a:r>
              <a:rPr b="1" lang="ru-RU" sz="2000" spc="-1" strike="noStrike">
                <a:solidFill>
                  <a:srgbClr val="b2b2b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Основные цели разминки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а) разогреть организм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б) вызвать плавное повышение пульса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b2b2b2"/>
                </a:solidFill>
                <a:uFillTx/>
                <a:latin typeface="Arial"/>
                <a:ea typeface="Arial"/>
              </a:rPr>
              <a:t>2</a:t>
            </a:r>
            <a:r>
              <a:rPr b="1" lang="ru-RU" sz="2000" spc="-1" strike="noStrike" u="sng">
                <a:solidFill>
                  <a:srgbClr val="c8044a"/>
                </a:solidFill>
                <a:uFillTx/>
                <a:latin typeface="Arial"/>
                <a:ea typeface="Arial"/>
              </a:rPr>
              <a:t>. Основная часть </a:t>
            </a:r>
            <a:r>
              <a:rPr b="1" lang="ru-RU" sz="2000" spc="-1" strike="noStrike">
                <a:solidFill>
                  <a:srgbClr val="c8044a"/>
                </a:solidFill>
                <a:latin typeface="Arial"/>
                <a:ea typeface="Arial"/>
              </a:rPr>
              <a:t>— аэробная фаза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следует довести интенсивность нагрузки до уровня 50–70% максимальной возрастной ЧСС и сохранять её не менее 20–30 мин каждое занятие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b2b2b2"/>
                </a:solidFill>
                <a:uFillTx/>
                <a:latin typeface="Arial"/>
                <a:ea typeface="Arial"/>
              </a:rPr>
              <a:t>3.</a:t>
            </a:r>
            <a:r>
              <a:rPr b="1" lang="ru-RU" sz="20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c8044a"/>
                </a:solidFill>
                <a:uFillTx/>
                <a:latin typeface="Arial"/>
                <a:ea typeface="Arial"/>
              </a:rPr>
              <a:t>Заключительная часть</a:t>
            </a:r>
            <a:r>
              <a:rPr b="1" lang="ru-RU" sz="2000" spc="-1" strike="noStrike">
                <a:solidFill>
                  <a:srgbClr val="c8044a"/>
                </a:solidFill>
                <a:latin typeface="Arial"/>
                <a:ea typeface="Arial"/>
              </a:rPr>
              <a:t> занятия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— фаза выхода из аэробной нагрузки, очень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важна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для адаптации организма. Продолжительность её 20–30 мин. 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98" name=""/>
          <p:cNvGraphicFramePr/>
          <p:nvPr/>
        </p:nvGraphicFramePr>
        <p:xfrm>
          <a:off x="6324480" y="2141640"/>
          <a:ext cx="2590920" cy="205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2141640"/>
                    <a:ext cx="25909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904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аша 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рограмм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а оздоровления   должна  включать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3 период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427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I. </a:t>
            </a:r>
            <a:r>
              <a:rPr b="1" lang="ru-RU" sz="2400" spc="-1" strike="noStrike">
                <a:solidFill>
                  <a:srgbClr val="f12954"/>
                </a:solidFill>
                <a:latin typeface="Arial"/>
                <a:ea typeface="Arial"/>
              </a:rPr>
              <a:t>Вводно-адаптационный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или подготовительный (6–8 нед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II</a:t>
            </a:r>
            <a:r>
              <a:rPr b="1" lang="ru-RU" sz="2400" spc="-1" strike="noStrike">
                <a:solidFill>
                  <a:srgbClr val="f12954"/>
                </a:solidFill>
                <a:latin typeface="Arial"/>
                <a:ea typeface="Arial"/>
              </a:rPr>
              <a:t>. Основной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тренировочный период (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36–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40 нед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2954"/>
                </a:solidFill>
                <a:latin typeface="Arial"/>
                <a:ea typeface="Arial"/>
              </a:rPr>
              <a:t>III</a:t>
            </a:r>
            <a:r>
              <a:rPr b="1" lang="ru-RU" sz="2400" spc="-1" strike="noStrike">
                <a:solidFill>
                  <a:srgbClr val="f12954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f1295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12954"/>
                </a:solidFill>
                <a:latin typeface="Arial"/>
                <a:ea typeface="Arial"/>
              </a:rPr>
              <a:t>Спортивно-оздоровительный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, или поддерживающий (без ограничения продолжительност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Длительность тренировки в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I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периоде 45–60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мин, во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II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и </a:t>
            </a:r>
            <a:r>
              <a:rPr b="1" i="1" lang="en-US" sz="2400" spc="-1" strike="noStrike">
                <a:solidFill>
                  <a:srgbClr val="40458c"/>
                </a:solidFill>
                <a:latin typeface="Arial"/>
                <a:ea typeface="Arial"/>
              </a:rPr>
              <a:t>III</a:t>
            </a:r>
            <a:r>
              <a:rPr b="1" i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периодах длительность одной тренировки составляет от 45 до 90 м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02" name=""/>
          <p:cNvGraphicFramePr/>
          <p:nvPr/>
        </p:nvGraphicFramePr>
        <p:xfrm>
          <a:off x="7238880" y="2989440"/>
          <a:ext cx="15242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989440"/>
                    <a:ext cx="15242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524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Каждая часть занятий для лиц с повышенным артериальным давлением имеет свои особенности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В разминочной ча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«рассеивание»упражнений по различным мышечным группам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ачинать с нижних отделов конечностей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упражняться до 30 мин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В основной ча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чередовать упражнения  с расслаблением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ельзя задерживать дыхание и натуживатьс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В заключительной ча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ужен более постепенный выход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полезны аутогенные тренировки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027080" indent="-455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возможны  массаж и самомассаж определённых зон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019240" y="609480"/>
          <a:ext cx="510552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609480"/>
                    <a:ext cx="51055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Влияние регулярной аэробной физической активности на здоровь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Снижение сердечного выброса в поко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лучшение липидного спектра кров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Достижение сбалансированного потребления и расхода энерг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Снижение скорости возрастной потери костной тка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33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стойчивость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к стресс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лучшение гормонального фо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овышение иммун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нижение рис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24120" indent="-409680">
              <a:lnSpc>
                <a:spcPct val="75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жирения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4120" indent="-409680">
              <a:lnSpc>
                <a:spcPct val="75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ахарного диабета и ожирения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4120" indent="-409680">
              <a:lnSpc>
                <a:spcPct val="75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гипертонии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4120" indent="-409680">
              <a:lnSpc>
                <a:spcPct val="75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злокачественных новообразований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924120" indent="-409680">
              <a:lnSpc>
                <a:spcPct val="75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стеопороз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4648320"/>
            <a:ext cx="380880" cy="1295280"/>
          </a:xfrm>
          <a:custGeom>
            <a:avLst/>
            <a:gdLst>
              <a:gd name="textAreaLeft" fmla="*/ 50760 w 380880"/>
              <a:gd name="textAreaRight" fmla="*/ 330120 w 3808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804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886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Уровень тренированности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ашей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  <a:ea typeface="Arial"/>
              </a:rPr>
              <a:t>сердечно-сосудистой с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мы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определяется по разнице между величиной пульса до и после нагрузки спустя 3 мин после нагрузк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   </a:t>
            </a:r>
            <a:r>
              <a:rPr b="1" i="1" lang="ru-RU" sz="2000" spc="-1" strike="noStrike">
                <a:solidFill>
                  <a:srgbClr val="c8044a"/>
                </a:solidFill>
                <a:latin typeface="Arial"/>
                <a:ea typeface="Arial"/>
              </a:rPr>
              <a:t>Хорошая</a:t>
            </a:r>
            <a:r>
              <a:rPr b="1" i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тренированность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— разность не более</a:t>
            </a:r>
            <a:br>
              <a:rPr sz="2000"/>
            </a:b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5 ударов в минут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  </a:t>
            </a:r>
            <a:r>
              <a:rPr b="1" i="1" lang="ru-RU" sz="2000" spc="-1" strike="noStrike">
                <a:solidFill>
                  <a:srgbClr val="c8044a"/>
                </a:solidFill>
                <a:latin typeface="Arial"/>
                <a:ea typeface="Arial"/>
              </a:rPr>
              <a:t>Удовлетворительная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— разница 5–10 ударов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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   </a:t>
            </a:r>
            <a:r>
              <a:rPr b="1" i="1" lang="ru-RU" sz="2000" spc="-1" strike="noStrike">
                <a:solidFill>
                  <a:srgbClr val="c8044a"/>
                </a:solidFill>
                <a:latin typeface="Arial"/>
                <a:ea typeface="Arial"/>
              </a:rPr>
              <a:t>Низкая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 — разница  более 10 ударов.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315200" y="4952880"/>
          <a:ext cx="13716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4952880"/>
                    <a:ext cx="1371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Arial"/>
              </a:rPr>
              <a:t>ОПРОСНИК ПО ОЦЕНКЕ ФИЗИЧЕСКОЙ АКТИВНОСТ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400" spc="-1" strike="noStrike">
                <a:solidFill>
                  <a:srgbClr val="c6062f"/>
                </a:solidFill>
                <a:latin typeface="Arial"/>
              </a:rPr>
              <a:t>Оцените Вашу физическую активность!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920" y="2017800"/>
          <a:ext cx="8534160" cy="4211640"/>
        </p:xfrm>
        <a:graphic>
          <a:graphicData uri="http://schemas.openxmlformats.org/drawingml/2006/table">
            <a:tbl>
              <a:tblPr/>
              <a:tblGrid>
                <a:gridCol w="3537000"/>
                <a:gridCol w="958680"/>
                <a:gridCol w="839880"/>
                <a:gridCol w="768240"/>
                <a:gridCol w="754200"/>
                <a:gridCol w="785520"/>
                <a:gridCol w="8906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40458c"/>
                          </a:solidFill>
                          <a:latin typeface="Arial"/>
                          <a:ea typeface="Times New Roman"/>
                        </a:rPr>
                        <a:t>Вид деятельности</a:t>
                      </a:r>
                      <a:r>
                        <a:rPr b="1" lang="ru-RU" sz="2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lt;0</a:t>
                      </a: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ч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,5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 ч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 ч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&gt;</a:t>
                      </a: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ч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Баллы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. Хожу пешком до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работы и  за покупками ежедневно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. Занимаюсь физкульту</a:t>
                      </a: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ой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еженедельно</a:t>
                      </a:r>
                      <a:r>
                        <a:rPr b="0" lang="ru-RU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b6b8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. Нахожусь в движении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на работе</a:t>
                      </a: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33d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Общее количество баллов</a:t>
                      </a: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7162920" y="4991040"/>
          <a:ext cx="8380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991040"/>
                    <a:ext cx="8380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 rot="10800000">
          <a:off x="4800600" y="4266720"/>
          <a:ext cx="7984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0800000">
                    <a:off x="4800600" y="4266720"/>
                    <a:ext cx="798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762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ТЕСТ (по  К. Куперу)</a:t>
            </a:r>
            <a:br>
              <a:rPr sz="3200"/>
            </a:br>
            <a:r>
              <a:rPr b="1" i="1" lang="en-US" sz="2400" spc="-1" strike="noStrike">
                <a:solidFill>
                  <a:srgbClr val="c8044a"/>
                </a:solidFill>
                <a:latin typeface="Arial"/>
                <a:ea typeface="Arial"/>
              </a:rPr>
              <a:t>Пройдите (ходьба, бег) как можно дальше в течение</a:t>
            </a:r>
            <a:r>
              <a:rPr b="1" i="1" lang="ru-RU" sz="2400" spc="-1" strike="noStrike">
                <a:solidFill>
                  <a:srgbClr val="c8044a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c8044a"/>
                </a:solidFill>
                <a:latin typeface="Arial"/>
                <a:ea typeface="Arial"/>
              </a:rPr>
              <a:t>12 мин.  </a:t>
            </a:r>
            <a:r>
              <a:rPr b="1" i="1" lang="ru-RU" sz="2400" spc="-1" strike="noStrike">
                <a:solidFill>
                  <a:srgbClr val="c8044a"/>
                </a:solidFill>
                <a:latin typeface="Arial"/>
              </a:rPr>
              <a:t>Оцените физическую тренированность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.  </a:t>
            </a:r>
            <a:r>
              <a:rPr b="1" i="1" lang="en-US" sz="24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Для мужчин (в км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-590400" y="-39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1905120"/>
            <a:ext cx="9144000" cy="4343400"/>
            <a:chOff x="0" y="1905120"/>
            <a:chExt cx="9144000" cy="4343400"/>
          </a:xfrm>
        </p:grpSpPr>
        <p:grpSp>
          <p:nvGrpSpPr>
            <p:cNvPr id="231" name=""/>
            <p:cNvGrpSpPr/>
            <p:nvPr/>
          </p:nvGrpSpPr>
          <p:grpSpPr>
            <a:xfrm>
              <a:off x="3960" y="1909080"/>
              <a:ext cx="9135360" cy="4334760"/>
              <a:chOff x="3960" y="1909080"/>
              <a:chExt cx="9135360" cy="43347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3960" y="1909080"/>
                <a:ext cx="2548800" cy="892440"/>
                <a:chOff x="3960" y="1909080"/>
                <a:chExt cx="2548800" cy="8924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4440" y="1909080"/>
                  <a:ext cx="242748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Степень 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п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д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-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готовленности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60" y="1909080"/>
                  <a:ext cx="254880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2552760" y="1909080"/>
                <a:ext cx="1807200" cy="892440"/>
                <a:chOff x="2552760" y="1909080"/>
                <a:chExt cx="1807200" cy="892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612880" y="1909080"/>
                  <a:ext cx="168624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До 30 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52760" y="1909080"/>
                  <a:ext cx="180720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360320" y="1909080"/>
                <a:ext cx="1581120" cy="892440"/>
                <a:chOff x="4360320" y="1909080"/>
                <a:chExt cx="1581120" cy="8924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20800" y="1909080"/>
                  <a:ext cx="14601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30–39 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360320" y="1909080"/>
                  <a:ext cx="158112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941800" y="1909080"/>
                <a:ext cx="1742760" cy="892440"/>
                <a:chOff x="5941800" y="1909080"/>
                <a:chExt cx="1742760" cy="8924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002280" y="1909080"/>
                  <a:ext cx="162144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40–49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41800" y="1909080"/>
                  <a:ext cx="17427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7684560" y="1909080"/>
                <a:ext cx="1454760" cy="892440"/>
                <a:chOff x="7684560" y="1909080"/>
                <a:chExt cx="1454760" cy="8924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7744680" y="1909080"/>
                  <a:ext cx="13341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Старше 50 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684560" y="1909080"/>
                  <a:ext cx="14547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960" y="2801520"/>
                <a:ext cx="2548800" cy="637560"/>
                <a:chOff x="3960" y="2801520"/>
                <a:chExt cx="2548800" cy="6375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4440" y="2801520"/>
                  <a:ext cx="242748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чень плох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60" y="2801520"/>
                  <a:ext cx="254880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2552760" y="2801520"/>
                <a:ext cx="1807200" cy="637560"/>
                <a:chOff x="2552760" y="2801520"/>
                <a:chExt cx="1807200" cy="637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12880" y="2801520"/>
                  <a:ext cx="168624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552760" y="2801520"/>
                  <a:ext cx="180720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360320" y="2801520"/>
                <a:ext cx="1581120" cy="637560"/>
                <a:chOff x="4360320" y="2801520"/>
                <a:chExt cx="1581120" cy="6375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420800" y="2801520"/>
                  <a:ext cx="14601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360320" y="2801520"/>
                  <a:ext cx="158112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5941800" y="2801520"/>
                <a:ext cx="1742760" cy="637560"/>
                <a:chOff x="5941800" y="2801520"/>
                <a:chExt cx="1742760" cy="637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002280" y="2801520"/>
                  <a:ext cx="162144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41800" y="2801520"/>
                  <a:ext cx="17427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684560" y="2801520"/>
                <a:ext cx="1454760" cy="637560"/>
                <a:chOff x="7684560" y="2801520"/>
                <a:chExt cx="1454760" cy="6375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744680" y="2801520"/>
                  <a:ext cx="13341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684560" y="2801520"/>
                  <a:ext cx="14547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960" y="3439080"/>
                <a:ext cx="2548800" cy="637200"/>
                <a:chOff x="3960" y="3439080"/>
                <a:chExt cx="2548800" cy="6372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4440" y="3439080"/>
                  <a:ext cx="242748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Плох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0" y="3439080"/>
                  <a:ext cx="254880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552760" y="3439080"/>
                <a:ext cx="1807200" cy="637200"/>
                <a:chOff x="2552760" y="3439080"/>
                <a:chExt cx="1807200" cy="6372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612880" y="3439080"/>
                  <a:ext cx="168624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6–1,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552760" y="3439080"/>
                  <a:ext cx="180720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4360320" y="3439080"/>
                <a:ext cx="1581120" cy="637200"/>
                <a:chOff x="4360320" y="3439080"/>
                <a:chExt cx="1581120" cy="637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420800" y="3439080"/>
                  <a:ext cx="14601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5–1,8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360320" y="3439080"/>
                  <a:ext cx="158112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941800" y="3439080"/>
                <a:ext cx="1742760" cy="637200"/>
                <a:chOff x="5941800" y="3439080"/>
                <a:chExt cx="1742760" cy="6372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6002280" y="3439080"/>
                  <a:ext cx="162144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3–1,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941800" y="3439080"/>
                  <a:ext cx="17427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7684560" y="3439080"/>
                <a:ext cx="1454760" cy="637200"/>
                <a:chOff x="7684560" y="3439080"/>
                <a:chExt cx="1454760" cy="6372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7744680" y="3439080"/>
                  <a:ext cx="13341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2–1,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684560" y="3439080"/>
                  <a:ext cx="14547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4076280"/>
                <a:ext cx="2548800" cy="892440"/>
                <a:chOff x="3960" y="4076280"/>
                <a:chExt cx="2548800" cy="892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440" y="4076280"/>
                  <a:ext cx="242748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Удовлетвори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-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тель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н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4076280"/>
                  <a:ext cx="254880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552760" y="4076280"/>
                <a:ext cx="1807200" cy="892440"/>
                <a:chOff x="2552760" y="4076280"/>
                <a:chExt cx="1807200" cy="8924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12880" y="4076280"/>
                  <a:ext cx="168624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0–2,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552760" y="4076280"/>
                  <a:ext cx="180720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360320" y="4076280"/>
                <a:ext cx="1581120" cy="892440"/>
                <a:chOff x="4360320" y="4076280"/>
                <a:chExt cx="1581120" cy="8924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420800" y="4076280"/>
                  <a:ext cx="14601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85–2,2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360320" y="4076280"/>
                  <a:ext cx="158112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5941800" y="4076280"/>
                <a:ext cx="1742760" cy="892440"/>
                <a:chOff x="5941800" y="4076280"/>
                <a:chExt cx="1742760" cy="8924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6002280" y="4076280"/>
                  <a:ext cx="162144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7–2,1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41800" y="4076280"/>
                  <a:ext cx="17427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7684560" y="4076280"/>
                <a:ext cx="1454760" cy="892440"/>
                <a:chOff x="7684560" y="4076280"/>
                <a:chExt cx="1454760" cy="8924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7744680" y="4076280"/>
                  <a:ext cx="13341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6–1,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684560" y="4076280"/>
                  <a:ext cx="1454760" cy="89244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960" y="4969080"/>
                <a:ext cx="2548800" cy="637200"/>
                <a:chOff x="3960" y="4969080"/>
                <a:chExt cx="2548800" cy="637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4440" y="4969080"/>
                  <a:ext cx="242748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Хорошо 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60" y="4969080"/>
                  <a:ext cx="254880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552760" y="4969080"/>
                <a:ext cx="1807200" cy="637200"/>
                <a:chOff x="2552760" y="4969080"/>
                <a:chExt cx="1807200" cy="6372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12880" y="4969080"/>
                  <a:ext cx="168624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5–2,7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52760" y="4969080"/>
                  <a:ext cx="180720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360320" y="4969080"/>
                <a:ext cx="1581120" cy="637200"/>
                <a:chOff x="4360320" y="4969080"/>
                <a:chExt cx="1581120" cy="6372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420800" y="4969080"/>
                  <a:ext cx="14601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25–2,6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360320" y="4969080"/>
                  <a:ext cx="158112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941800" y="4969080"/>
                <a:ext cx="1742760" cy="637200"/>
                <a:chOff x="5941800" y="4969080"/>
                <a:chExt cx="1742760" cy="63720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02280" y="4969080"/>
                  <a:ext cx="162144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2–2,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41800" y="4969080"/>
                  <a:ext cx="17427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684560" y="4969080"/>
                <a:ext cx="1454760" cy="637200"/>
                <a:chOff x="7684560" y="4969080"/>
                <a:chExt cx="1454760" cy="637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744680" y="4969080"/>
                  <a:ext cx="13341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0–2,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684560" y="4969080"/>
                  <a:ext cx="1454760" cy="63720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960" y="5606280"/>
                <a:ext cx="2548800" cy="637560"/>
                <a:chOff x="3960" y="5606280"/>
                <a:chExt cx="2548800" cy="6375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4440" y="5606280"/>
                  <a:ext cx="242748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тличн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960" y="5606280"/>
                  <a:ext cx="254880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552760" y="5606280"/>
                <a:ext cx="1807200" cy="637560"/>
                <a:chOff x="2552760" y="5606280"/>
                <a:chExt cx="1807200" cy="6375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612880" y="5606280"/>
                  <a:ext cx="168624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8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552760" y="5606280"/>
                  <a:ext cx="180720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360320" y="5606280"/>
                <a:ext cx="1581120" cy="637560"/>
                <a:chOff x="4360320" y="5606280"/>
                <a:chExt cx="1581120" cy="637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420800" y="5606280"/>
                  <a:ext cx="14601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65 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360320" y="5606280"/>
                  <a:ext cx="158112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941800" y="5606280"/>
                <a:ext cx="1742760" cy="637560"/>
                <a:chOff x="5941800" y="5606280"/>
                <a:chExt cx="1742760" cy="6375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002280" y="5606280"/>
                  <a:ext cx="162144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941800" y="5606280"/>
                  <a:ext cx="17427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684560" y="5606280"/>
                <a:ext cx="1454760" cy="637560"/>
                <a:chOff x="7684560" y="5606280"/>
                <a:chExt cx="1454760" cy="6375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744680" y="5606280"/>
                  <a:ext cx="13341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684560" y="5606280"/>
                  <a:ext cx="1454760" cy="637560"/>
                </a:xfrm>
                <a:prstGeom prst="rect">
                  <a:avLst/>
                </a:prstGeom>
                <a:noFill/>
                <a:ln w="381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0" y="1905120"/>
              <a:ext cx="9144000" cy="434340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323" name=""/>
          <p:cNvGraphicFramePr/>
          <p:nvPr/>
        </p:nvGraphicFramePr>
        <p:xfrm>
          <a:off x="8153280" y="0"/>
          <a:ext cx="990720" cy="19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0"/>
                    <a:ext cx="99072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Arial"/>
              </a:rPr>
              <a:t>ТЕСТ (по  К. Куперу)</a:t>
            </a:r>
            <a:br>
              <a:rPr sz="3200"/>
            </a:br>
            <a:r>
              <a:rPr b="1" i="1" lang="en-US" sz="2400" spc="-1" strike="noStrike">
                <a:solidFill>
                  <a:srgbClr val="c8044a"/>
                </a:solidFill>
                <a:latin typeface="Arial"/>
                <a:ea typeface="Arial"/>
              </a:rPr>
              <a:t>Пройдите (ходьба, бег) как можно дальше в течение</a:t>
            </a:r>
            <a:r>
              <a:rPr b="1" i="1" lang="ru-RU" sz="2400" spc="-1" strike="noStrike">
                <a:solidFill>
                  <a:srgbClr val="c8044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8044a"/>
                </a:solidFill>
                <a:latin typeface="Arial"/>
                <a:ea typeface="Arial"/>
              </a:rPr>
              <a:t>12 мин.  </a:t>
            </a:r>
            <a:r>
              <a:rPr b="1" i="1" lang="ru-RU" sz="2400" spc="-1" strike="noStrike">
                <a:solidFill>
                  <a:srgbClr val="c8044a"/>
                </a:solidFill>
                <a:latin typeface="Arial"/>
              </a:rPr>
              <a:t>Оцените физическую тренированность</a:t>
            </a:r>
            <a:r>
              <a:rPr b="1" lang="ru-RU" sz="2400" spc="-1" strike="noStrike">
                <a:solidFill>
                  <a:srgbClr val="c8044a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i="1" lang="en-US" sz="24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Для </a:t>
            </a:r>
            <a:r>
              <a:rPr b="1" i="1" lang="ru-RU" sz="2400" spc="-1" strike="noStrike" u="sng">
                <a:solidFill>
                  <a:srgbClr val="40458c"/>
                </a:solidFill>
                <a:uFillTx/>
                <a:latin typeface="Arial"/>
              </a:rPr>
              <a:t>женщ</a:t>
            </a:r>
            <a:r>
              <a:rPr b="1" i="1" lang="en-US" sz="24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ин (в км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2057400"/>
            <a:ext cx="9144000" cy="4343400"/>
            <a:chOff x="0" y="2057400"/>
            <a:chExt cx="9144000" cy="4343400"/>
          </a:xfrm>
        </p:grpSpPr>
        <p:grpSp>
          <p:nvGrpSpPr>
            <p:cNvPr id="327" name=""/>
            <p:cNvGrpSpPr/>
            <p:nvPr/>
          </p:nvGrpSpPr>
          <p:grpSpPr>
            <a:xfrm>
              <a:off x="3960" y="2061360"/>
              <a:ext cx="9135360" cy="4334400"/>
              <a:chOff x="3960" y="2061360"/>
              <a:chExt cx="9135360" cy="43344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3960" y="2061360"/>
                <a:ext cx="2694240" cy="947880"/>
                <a:chOff x="3960" y="2061360"/>
                <a:chExt cx="2694240" cy="9478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3720" y="2061360"/>
                  <a:ext cx="257436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Степень 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п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д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</a:rPr>
                    <a:t>-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готовленности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960" y="2061360"/>
                  <a:ext cx="269424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2698200" y="2061360"/>
                <a:ext cx="1586880" cy="947880"/>
                <a:chOff x="2698200" y="2061360"/>
                <a:chExt cx="1586880" cy="9478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757600" y="2061360"/>
                  <a:ext cx="146736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До 30 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98200" y="2061360"/>
                  <a:ext cx="158688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285080" y="2061360"/>
                <a:ext cx="1621800" cy="947880"/>
                <a:chOff x="4285080" y="2061360"/>
                <a:chExt cx="1621800" cy="9478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344840" y="2061360"/>
                  <a:ext cx="150192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30–39 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85080" y="2061360"/>
                  <a:ext cx="162180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5906880" y="2061360"/>
                <a:ext cx="1621800" cy="947880"/>
                <a:chOff x="5906880" y="2061360"/>
                <a:chExt cx="1621800" cy="9478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966280" y="2061360"/>
                  <a:ext cx="150228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40–49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06880" y="2061360"/>
                  <a:ext cx="162180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529040" y="2061360"/>
                <a:ext cx="1610280" cy="947880"/>
                <a:chOff x="7529040" y="2061360"/>
                <a:chExt cx="1610280" cy="9478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588440" y="2061360"/>
                  <a:ext cx="149076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Старше 50 лет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29040" y="2061360"/>
                  <a:ext cx="1610280" cy="94788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3960" y="3009240"/>
                <a:ext cx="2694240" cy="677160"/>
                <a:chOff x="3960" y="3009240"/>
                <a:chExt cx="2694240" cy="677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3720" y="3009240"/>
                  <a:ext cx="2574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чень плох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960" y="3009240"/>
                  <a:ext cx="269424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698200" y="3009240"/>
                <a:ext cx="1586880" cy="677160"/>
                <a:chOff x="2698200" y="3009240"/>
                <a:chExt cx="1586880" cy="6771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757600" y="3009240"/>
                  <a:ext cx="1467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698200" y="3009240"/>
                  <a:ext cx="15868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4285080" y="3009240"/>
                <a:ext cx="1621800" cy="677160"/>
                <a:chOff x="4285080" y="3009240"/>
                <a:chExt cx="1621800" cy="6771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344840" y="3009240"/>
                  <a:ext cx="150192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285080" y="300924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06880" y="3009240"/>
                <a:ext cx="1621800" cy="677160"/>
                <a:chOff x="5906880" y="3009240"/>
                <a:chExt cx="1621800" cy="6771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966280" y="3009240"/>
                  <a:ext cx="1502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06880" y="300924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529040" y="3009240"/>
                <a:ext cx="1610280" cy="677160"/>
                <a:chOff x="7529040" y="3009240"/>
                <a:chExt cx="1610280" cy="6771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588440" y="3009240"/>
                  <a:ext cx="14907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0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529040" y="3009240"/>
                  <a:ext cx="1610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960" y="3686760"/>
                <a:ext cx="2694240" cy="677160"/>
                <a:chOff x="3960" y="3686760"/>
                <a:chExt cx="2694240" cy="6771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3720" y="3686760"/>
                  <a:ext cx="2574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Плох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960" y="3686760"/>
                  <a:ext cx="269424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698200" y="3686760"/>
                <a:ext cx="1586880" cy="677160"/>
                <a:chOff x="2698200" y="3686760"/>
                <a:chExt cx="1586880" cy="6771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757600" y="3686760"/>
                  <a:ext cx="1467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5–1,8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98200" y="3686760"/>
                  <a:ext cx="15868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285080" y="3686760"/>
                <a:ext cx="1621800" cy="677160"/>
                <a:chOff x="4285080" y="3686760"/>
                <a:chExt cx="1621800" cy="6771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344840" y="3686760"/>
                  <a:ext cx="150192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3–1,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285080" y="368676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906880" y="3686760"/>
                <a:ext cx="1621800" cy="677160"/>
                <a:chOff x="5906880" y="3686760"/>
                <a:chExt cx="1621800" cy="6771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966280" y="3686760"/>
                  <a:ext cx="1502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2–1,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906880" y="368676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7529040" y="3686760"/>
                <a:ext cx="1610280" cy="677160"/>
                <a:chOff x="7529040" y="3686760"/>
                <a:chExt cx="1610280" cy="677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588440" y="3686760"/>
                  <a:ext cx="14907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0–1,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29040" y="3686760"/>
                  <a:ext cx="1610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960" y="4363920"/>
                <a:ext cx="2694240" cy="676800"/>
                <a:chOff x="3960" y="4363920"/>
                <a:chExt cx="2694240" cy="6768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3720" y="4363920"/>
                  <a:ext cx="257436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Удовлетво</a:t>
                  </a:r>
                  <a:r>
                    <a:rPr b="1" lang="ru-RU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рительн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960" y="4363920"/>
                  <a:ext cx="269424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98200" y="4363920"/>
                <a:ext cx="1586880" cy="676800"/>
                <a:chOff x="2698200" y="4363920"/>
                <a:chExt cx="1586880" cy="6768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757600" y="4363920"/>
                  <a:ext cx="146736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85–2,1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98200" y="4363920"/>
                  <a:ext cx="158688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285080" y="4363920"/>
                <a:ext cx="1621800" cy="676800"/>
                <a:chOff x="4285080" y="4363920"/>
                <a:chExt cx="1621800" cy="6768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344840" y="4363920"/>
                  <a:ext cx="150192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7–1,9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285080" y="4363920"/>
                  <a:ext cx="162180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906880" y="4363920"/>
                <a:ext cx="1621800" cy="676800"/>
                <a:chOff x="5906880" y="4363920"/>
                <a:chExt cx="1621800" cy="6768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966280" y="4363920"/>
                  <a:ext cx="150228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5–1,8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906880" y="4363920"/>
                  <a:ext cx="162180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529040" y="4363920"/>
                <a:ext cx="1610280" cy="676800"/>
                <a:chOff x="7529040" y="4363920"/>
                <a:chExt cx="1610280" cy="6768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588440" y="4363920"/>
                  <a:ext cx="149076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4–1,6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529040" y="4363920"/>
                  <a:ext cx="1610280" cy="67680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3960" y="5041080"/>
                <a:ext cx="2694240" cy="677160"/>
                <a:chOff x="3960" y="5041080"/>
                <a:chExt cx="2694240" cy="6771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720" y="5041080"/>
                  <a:ext cx="2574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Хорошо 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960" y="5041080"/>
                  <a:ext cx="269424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698200" y="5041080"/>
                <a:ext cx="1586880" cy="677160"/>
                <a:chOff x="2698200" y="5041080"/>
                <a:chExt cx="1586880" cy="677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757600" y="5041080"/>
                  <a:ext cx="1467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16–2,6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698200" y="5041080"/>
                  <a:ext cx="15868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285080" y="5041080"/>
                <a:ext cx="1621800" cy="677160"/>
                <a:chOff x="4285080" y="5041080"/>
                <a:chExt cx="1621800" cy="6771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344840" y="5041080"/>
                  <a:ext cx="150192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0–2,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285080" y="504108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906880" y="5041080"/>
                <a:ext cx="1621800" cy="677160"/>
                <a:chOff x="5906880" y="5041080"/>
                <a:chExt cx="1621800" cy="6771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966280" y="5041080"/>
                  <a:ext cx="1502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85–2,3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906880" y="504108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529040" y="5041080"/>
                <a:ext cx="1610280" cy="677160"/>
                <a:chOff x="7529040" y="5041080"/>
                <a:chExt cx="1610280" cy="6771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588440" y="5041080"/>
                  <a:ext cx="14907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1,7–2,1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29040" y="5041080"/>
                  <a:ext cx="1610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960" y="5718600"/>
                <a:ext cx="2694240" cy="677160"/>
                <a:chOff x="3960" y="5718600"/>
                <a:chExt cx="2694240" cy="6771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3720" y="5718600"/>
                  <a:ext cx="2574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Отлично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60" y="5718600"/>
                  <a:ext cx="269424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698200" y="5718600"/>
                <a:ext cx="1586880" cy="677160"/>
                <a:chOff x="2698200" y="5718600"/>
                <a:chExt cx="1586880" cy="677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757600" y="5718600"/>
                  <a:ext cx="14673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6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698200" y="5718600"/>
                  <a:ext cx="15868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285080" y="5718600"/>
                <a:ext cx="1621800" cy="677160"/>
                <a:chOff x="4285080" y="5718600"/>
                <a:chExt cx="1621800" cy="677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344840" y="5718600"/>
                  <a:ext cx="150192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5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285080" y="571860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906880" y="5718600"/>
                <a:ext cx="1621800" cy="677160"/>
                <a:chOff x="5906880" y="5718600"/>
                <a:chExt cx="1621800" cy="677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966280" y="5718600"/>
                  <a:ext cx="1502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4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06880" y="5718600"/>
                  <a:ext cx="162180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529040" y="5718600"/>
                <a:ext cx="1610280" cy="677160"/>
                <a:chOff x="7529040" y="5718600"/>
                <a:chExt cx="1610280" cy="677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588440" y="5718600"/>
                  <a:ext cx="149076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≥</a:t>
                  </a:r>
                  <a:r>
                    <a:rPr b="1" lang="en-US" sz="2000" spc="-1" strike="noStrike">
                      <a:solidFill>
                        <a:srgbClr val="660066"/>
                      </a:solidFill>
                      <a:latin typeface="Arial"/>
                      <a:ea typeface="Arial"/>
                    </a:rPr>
                    <a:t>2,2</a:t>
                  </a: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529040" y="5718600"/>
                  <a:ext cx="1610280" cy="677160"/>
                </a:xfrm>
                <a:prstGeom prst="rect">
                  <a:avLst/>
                </a:prstGeom>
                <a:noFill/>
                <a:ln w="57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8" name=""/>
            <p:cNvSpPr/>
            <p:nvPr/>
          </p:nvSpPr>
          <p:spPr>
            <a:xfrm>
              <a:off x="0" y="2057400"/>
              <a:ext cx="9144000" cy="4343400"/>
            </a:xfrm>
            <a:prstGeom prst="rect">
              <a:avLst/>
            </a:prstGeom>
            <a:noFill/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aphicFrame>
        <p:nvGraphicFramePr>
          <p:cNvPr id="419" name=""/>
          <p:cNvGraphicFramePr/>
          <p:nvPr/>
        </p:nvGraphicFramePr>
        <p:xfrm>
          <a:off x="8269200" y="0"/>
          <a:ext cx="874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0" y="0"/>
                    <a:ext cx="874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440" y="1066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Знаете ли Вы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 регулярная аэробная физическая активность имеет тренирующий эффект?</a:t>
            </a: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Благодаря регулярной аэробной физической активности можно достичь: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тренированности сердечно-сосудистой систем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лучшения функции органов дыхан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гибкост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величения мышечной сил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большей выносливост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улучшения осанки и фигуры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7162920" y="3505320"/>
            <a:ext cx="17222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Вам противопоказаны </a:t>
            </a:r>
            <a:br>
              <a:rPr sz="2400"/>
            </a:b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аэробические нагрузки, если у Вас: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нестабильная стенокардия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ИБС с частыми приступами малых усилий, покоя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недостаточность кровообращения </a:t>
            </a:r>
            <a:r>
              <a:rPr b="1" lang="en-GB" sz="1600" spc="-1" strike="noStrike">
                <a:solidFill>
                  <a:srgbClr val="40458c"/>
                </a:solidFill>
                <a:latin typeface="Arial"/>
                <a:ea typeface="Arial"/>
              </a:rPr>
              <a:t>II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 и </a:t>
            </a:r>
            <a:r>
              <a:rPr b="1" lang="en-US" sz="1600" spc="-1" strike="noStrike">
                <a:solidFill>
                  <a:srgbClr val="40458c"/>
                </a:solidFill>
                <a:latin typeface="Arial"/>
                <a:ea typeface="Arial"/>
              </a:rPr>
              <a:t>III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 степени;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нарушения ритма сердца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проявляющиеся или усиливающиеся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);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аневризма сердца и сосудов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артериальная  гипертензия 180/110 мм рт.ст. и более (АГ </a:t>
            </a:r>
            <a:r>
              <a:rPr b="1" lang="en-GB" sz="1600" spc="-1" strike="noStrike">
                <a:solidFill>
                  <a:srgbClr val="40458c"/>
                </a:solidFill>
                <a:latin typeface="Arial"/>
                <a:ea typeface="Arial"/>
              </a:rPr>
              <a:t>III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 степени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нарушения мозгового кровообращения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аортальный стеноз или субаортальный мышечный стеноз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болезни лёгких с выраженной дыхательной недостаточностью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тромбофлебит и тромбоэмболические осложнения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лёгочная гипертензия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пороки сердца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состояние после кровоизлияния в глазное дно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миопия высокой степени (более 8 диоптрий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злокачественные новообразования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психические заболевания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л</a:t>
            </a:r>
            <a:r>
              <a:rPr b="1" lang="en-GB" sz="1600" spc="-1" strike="noStrike">
                <a:solidFill>
                  <a:srgbClr val="40458c"/>
                </a:solidFill>
                <a:latin typeface="Arial"/>
                <a:ea typeface="Arial"/>
              </a:rPr>
              <a:t>ихорадочные состояния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;</a:t>
            </a:r>
            <a:r>
              <a:rPr b="1" lang="en-GB" sz="16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сахарный диабет </a:t>
            </a:r>
            <a:r>
              <a:rPr b="1" i="1" lang="ru-RU" sz="1600" spc="-1" strike="noStrike">
                <a:solidFill>
                  <a:srgbClr val="40458c"/>
                </a:solidFill>
                <a:latin typeface="Arial"/>
                <a:ea typeface="Arial"/>
              </a:rPr>
              <a:t>(некомпенсированный)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6095880" y="3809880"/>
          <a:ext cx="2808360" cy="2895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3809880"/>
                    <a:ext cx="28083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 rot="1775400">
            <a:off x="6629040" y="4572000"/>
            <a:ext cx="1752480" cy="136440"/>
          </a:xfrm>
          <a:prstGeom prst="flowChartPunchedTape">
            <a:avLst/>
          </a:pr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9488600">
            <a:off x="6552720" y="4800240"/>
            <a:ext cx="1752840" cy="152280"/>
          </a:xfrm>
          <a:prstGeom prst="flowChartPunchedTape">
            <a:avLst/>
          </a:pr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kakadu</cp:lastModifiedBy>
  <dcterms:modified xsi:type="dcterms:W3CDTF">2007-12-03T16:00:23Z</dcterms:modified>
  <cp:revision>78</cp:revision>
  <dc:subject/>
  <dc:title>Презентация PowerPoint</dc:title>
</cp:coreProperties>
</file>