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DC1-1E92-4B8A-BB3B-BABB9551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225-EB16-4E1A-B585-4ED54919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31B-89A4-4119-937A-51DD8FBB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66B-F4ED-4629-BEEE-D332623C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7C3F-DFC0-402F-939E-02DA90FC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61B2-2967-407D-9BAD-9E3B9631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0BC6-8F44-407E-9AB9-D2979453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EC74-6365-461B-8AB1-CF23DF37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CACC-4052-48B9-A131-109EC36E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8ACB-75BA-463D-BDAB-4BE652CB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0533-15DF-48C6-B382-175AB76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D39-91D3-4FB5-9348-87AACB22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B66F-3980-4B44-9949-F4B88E0A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5062-899A-4BCA-B542-01BF09BA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7B92-E8CD-4B9A-AD54-AA48B87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57B2-B641-49BB-932C-19D3078A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207B-384C-41AC-BE57-84E35452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049-8B63-411C-B71B-4D66C5D8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8A9-BA3A-49B9-9F02-09D34C1F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94A-E188-4A1D-A31A-C59FA54F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E37-2A11-45E5-AF61-77EEF855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48E-D54A-4334-944A-FBBD1466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757-F007-49DB-8C0D-3104558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1C7-A5C9-48CC-8758-C7A4E5F7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5A36-2485-46C6-BBA4-93C3EF509B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0F50-51D6-4B65-BD32-C6E12FFCFA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4876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914400"/>
            <a:ext cx="6934320" cy="5375160"/>
            <a:chOff x="914400" y="914400"/>
            <a:chExt cx="6934320" cy="537516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828800" y="914400"/>
              <a:ext cx="5943600" cy="53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1523880"/>
              <a:ext cx="693432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66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  </a:t>
              </a: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Что такое стресс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Стрессоры. Что это такое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Социальная адаптация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Факторы риска, формирующие стресс</a:t>
              </a: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Как оценить  уровень стресса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Как преодолевать стресс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Стресс и вредные привычки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76720" y="310824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2764800" y="252360"/>
            <a:ext cx="35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Занятие 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ahoma"/>
              </a:rPr>
              <a:t>Стресс и здоровье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6781680" cy="4419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87000" y="685800"/>
            <a:ext cx="82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imes New Roman"/>
              </a:rPr>
              <a:t>Как определить стрессор и стрессовое поведение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447920"/>
            <a:ext cx="813276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Times New Roman"/>
              </a:rPr>
              <a:t>Шаг 1.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912"/>
                </a:solidFill>
                <a:latin typeface="Times New Roman"/>
              </a:rPr>
              <a:t>Определите, что именно для Вас является стрессором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Times New Roman"/>
              </a:rPr>
              <a:t>Шаг 2.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912"/>
                </a:solidFill>
                <a:latin typeface="Times New Roman"/>
              </a:rPr>
              <a:t>Проранжируйте эти стрессоры  по степени значимост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Times New Roman"/>
              </a:rPr>
              <a:t>Шаг 3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912"/>
                </a:solidFill>
                <a:latin typeface="Times New Roman"/>
              </a:rPr>
              <a:t>Отметьте стрессоры (значком «+») первого приоритета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912"/>
                </a:solidFill>
                <a:latin typeface="Times New Roman"/>
              </a:rPr>
              <a:t>над которыми, как Вы считаете, надо начать работу   сейчас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Times New Roman"/>
              </a:rPr>
              <a:t>Шаг 4.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912"/>
                </a:solidFill>
                <a:latin typeface="Times New Roman"/>
              </a:rPr>
              <a:t>Отметьте стрессоры (значком «</a:t>
            </a:r>
            <a:r>
              <a:rPr b="1" lang="ru-RU" sz="2400" spc="-1" strike="noStrike">
                <a:solidFill>
                  <a:srgbClr val="080912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80912"/>
                </a:solidFill>
                <a:latin typeface="Times New Roman"/>
              </a:rPr>
              <a:t>») отсроченного приоритета, над которыми Вы могли бы работать в дальнейшем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57913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9b341"/>
                </a:solidFill>
                <a:latin typeface="Times New Roman"/>
              </a:rPr>
              <a:t>Что из вами перечисленного Вы можете изменить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9b341"/>
                </a:solidFill>
                <a:latin typeface="Times New Roman"/>
              </a:rPr>
              <a:t>К чему из вами перечисленного Вам следовало бы изменить отношение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94880" y="762120"/>
            <a:ext cx="6122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imes New Roman"/>
              </a:rPr>
              <a:t>Как научиться преодолевать стресс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6062f"/>
                </a:solidFill>
                <a:latin typeface="Times New Roman"/>
              </a:rPr>
              <a:t>(начинаем анализировать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600200"/>
            <a:ext cx="822960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1. Подробно проанализируйте стрессоры, определённые Вами как приоритетные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 (наиболее важные для Вас в данное время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2. Постарайтесь описать не только фактор, вызывающий стрессовую реакцию, но и собственное  поведение в этой ситуаци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3. Постарайтесь выделить детали как самого стрессора, так и собственного поведения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4. Определите шаги изменения своего поведения, отношения или самого стрессора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(в зависимости от того, каков характер стрессора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5.</a:t>
            </a:r>
            <a:r>
              <a:rPr b="1" i="1" lang="en-US" sz="2400" spc="-1" strike="noStrike">
                <a:solidFill>
                  <a:srgbClr val="c6062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Обозначьте</a:t>
            </a:r>
            <a:r>
              <a:rPr b="1" i="1" lang="en-US" sz="2400" spc="-1" strike="noStrike">
                <a:solidFill>
                  <a:srgbClr val="c6062f"/>
                </a:solidFill>
                <a:latin typeface="Times New Roman"/>
              </a:rPr>
              <a:t>  сроки 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выполнения  намеченного!</a:t>
            </a:r>
            <a:r>
              <a:rPr b="1" i="1" lang="en-US" sz="2000" spc="-1" strike="noStrike">
                <a:solidFill>
                  <a:srgbClr val="c6062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09480" y="380880"/>
          <a:ext cx="114012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11401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914400" y="1371600"/>
            <a:ext cx="5257800" cy="4572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985760" y="60948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imes New Roman"/>
              </a:rPr>
              <a:t>Методы   преодоления   стресса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5840" y="1793880"/>
            <a:ext cx="546012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Метод глубокого дыхани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Метод психической саморегуляции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(аутогенной тренировки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Визуализация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Изменение неадекватного отношения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(когда стрессор не является стрессором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о вызывает психоэмоциональное напряжение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6140520" y="4267080"/>
            <a:ext cx="30034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143000" y="473040"/>
            <a:ext cx="6400800" cy="6384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514600" y="29718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imes New Roman"/>
              </a:rPr>
              <a:t>Заповеди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imes New Roman"/>
              </a:rPr>
              <a:t>преодоления  стресса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762120"/>
            <a:ext cx="5410080" cy="914400"/>
          </a:xfrm>
          <a:prstGeom prst="wedgeRoundRectCallout">
            <a:avLst>
              <a:gd name="adj1" fmla="val 17958"/>
              <a:gd name="adj2" fmla="val 94620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8380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«Стремитесь к высшей из доступных целей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и не вступайте в борьбу из-за безделиц»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     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(Г. Селье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5486400"/>
            <a:ext cx="4648320" cy="990720"/>
          </a:xfrm>
          <a:prstGeom prst="wedgeRoundRectCallout">
            <a:avLst>
              <a:gd name="adj1" fmla="val -26231"/>
              <a:gd name="adj2" fmla="val -93430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5562720"/>
            <a:ext cx="504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Берите пример с солнечных часов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ведите счёт лишь радостных дней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                                     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(Народная мудрость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2286000"/>
            <a:ext cx="2057400" cy="762120"/>
          </a:xfrm>
          <a:prstGeom prst="wedgeRoundRectCallout">
            <a:avLst>
              <a:gd name="adj1" fmla="val 61111"/>
              <a:gd name="adj2" fmla="val 58541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Учитесь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планировать дел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1219320"/>
            <a:ext cx="2590920" cy="990360"/>
          </a:xfrm>
          <a:prstGeom prst="wedgeRoundRectCallout">
            <a:avLst>
              <a:gd name="adj1" fmla="val -43384"/>
              <a:gd name="adj2" fmla="val 87337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Взвешивайте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целесообразность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действий и поступков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4876920"/>
            <a:ext cx="2514600" cy="1066680"/>
          </a:xfrm>
          <a:prstGeom prst="wedgeRoundRectCallout">
            <a:avLst>
              <a:gd name="adj1" fmla="val 34847"/>
              <a:gd name="adj2" fmla="val -76041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Не откладывайте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на «потом» особенно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неприятные дел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19920" y="4267080"/>
            <a:ext cx="1981080" cy="685800"/>
          </a:xfrm>
          <a:prstGeom prst="wedgeRoundRectCallout">
            <a:avLst>
              <a:gd name="adj1" fmla="val -41347"/>
              <a:gd name="adj2" fmla="val -93287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Ставьте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реальные цели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495680"/>
            <a:ext cx="1828800" cy="457200"/>
          </a:xfrm>
          <a:prstGeom prst="wedgeRoundRectCallout">
            <a:avLst>
              <a:gd name="adj1" fmla="val 28125"/>
              <a:gd name="adj2" fmla="val -94097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Верьте в себя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657600"/>
            <a:ext cx="2438280" cy="609480"/>
          </a:xfrm>
          <a:prstGeom prst="wedgeRoundRectCallout">
            <a:avLst>
              <a:gd name="adj1" fmla="val 49217"/>
              <a:gd name="adj2" fmla="val -73699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Цените радост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подлинной простоты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2895480"/>
            <a:ext cx="2666880" cy="609840"/>
          </a:xfrm>
          <a:prstGeom prst="wedgeRoundRectCallout">
            <a:avLst>
              <a:gd name="adj1" fmla="val -60000"/>
              <a:gd name="adj2" fmla="val 41925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Относитесь к другим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как к себе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14800" y="2057400"/>
            <a:ext cx="1676520" cy="685800"/>
          </a:xfrm>
          <a:prstGeom prst="wedgeRoundRectCallout">
            <a:avLst>
              <a:gd name="adj1" fmla="val -21592"/>
              <a:gd name="adj2" fmla="val 98379"/>
              <a:gd name="adj3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Не забывайте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об отдыхе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8280" y="60609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imes New Roman"/>
              </a:rPr>
              <a:t>Здоровья и удачи Вам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9320" y="1523880"/>
            <a:ext cx="5486400" cy="4267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124080" y="533520"/>
            <a:ext cx="54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Что такое стресс?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Как к нему относиться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6520" y="1066680"/>
            <a:ext cx="808416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СТРЕСС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«...синдром, вызываемый разными повреждающими агентами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Селье Г., 1936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].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«… общая адаптивная реакция организма в ответ на угрозу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нарушения гомеостаза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Кассиль Г.Н., 198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]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«…стресс 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  <a:ea typeface="Tahoma"/>
              </a:rPr>
              <a:t>—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проблема эмоционального стресса...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Судаков К.В., 1980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]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Различают два вида стресса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1. Конструктивный, положительный (эустресс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2. Деструктивный, отрицательный (дистресс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СТРЕСС </a:t>
            </a:r>
            <a:r>
              <a:rPr b="1" i="1" lang="ru-RU" sz="1600" spc="-1" strike="noStrike">
                <a:solidFill>
                  <a:srgbClr val="40458c"/>
                </a:solidFill>
                <a:latin typeface="Tahoma"/>
                <a:ea typeface="Tahoma"/>
              </a:rPr>
              <a:t>—</a:t>
            </a: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 обычное явление, это естественная часть человеческого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существования.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6062f"/>
                </a:solidFill>
                <a:latin typeface="Tahoma"/>
              </a:rPr>
              <a:t>Проблему для здоровья представляет чрезмерный стресс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1381320" cy="1158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0784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82480" y="533520"/>
            <a:ext cx="79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Как может проявляться стресс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1447920"/>
            <a:ext cx="830556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ПСИХИЧЕСКИЕ, ЭМОЦИОНАЛЬНЫЕ РЕАКЦИИ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6062f"/>
                </a:solidFill>
                <a:latin typeface="Tahoma"/>
              </a:rPr>
              <a:t>... От ярко эмоционально окрашенных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6062f"/>
                </a:solidFill>
                <a:latin typeface="Tahoma"/>
              </a:rPr>
              <a:t>    </a:t>
            </a:r>
            <a:r>
              <a:rPr b="1" i="1" lang="en-US" sz="1600" spc="-1" strike="noStrike">
                <a:solidFill>
                  <a:srgbClr val="c6062f"/>
                </a:solidFill>
                <a:latin typeface="Tahoma"/>
              </a:rPr>
              <a:t>(бурная радость, гнев, раздражение и др.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6062f"/>
                </a:solidFill>
                <a:latin typeface="Tahoma"/>
              </a:rPr>
              <a:t>… </a:t>
            </a:r>
            <a:r>
              <a:rPr b="1" i="1" lang="en-US" sz="1600" spc="-1" strike="noStrike">
                <a:solidFill>
                  <a:srgbClr val="c6062f"/>
                </a:solidFill>
                <a:latin typeface="Tahoma"/>
              </a:rPr>
              <a:t>до «немых» (нарушения аппетита, потеря аппетита,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6062f"/>
                </a:solidFill>
                <a:latin typeface="Tahoma"/>
              </a:rPr>
              <a:t>    </a:t>
            </a:r>
            <a:r>
              <a:rPr b="1" i="1" lang="en-US" sz="1600" spc="-1" strike="noStrike">
                <a:solidFill>
                  <a:srgbClr val="c6062f"/>
                </a:solidFill>
                <a:latin typeface="Tahoma"/>
              </a:rPr>
              <a:t>потеря интереса к межличностному общению, сексу, «уход  в себя»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ФИЗИОЛОГИЧЕСКИЕ ПРОЯВЛЕНИЯ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6062f"/>
                </a:solidFill>
                <a:latin typeface="Tahoma"/>
              </a:rPr>
              <a:t>Мигрень, язвы, дерматиты, гипертония, боли различной локализации, одышка и пр.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6062f"/>
                </a:solidFill>
                <a:latin typeface="Tahoma"/>
              </a:rPr>
              <a:t>Проблему для здоровья представляет чрезмерный стресс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Если стресс и раздражение не повышают артериальное давление,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значит, опасности нет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7240" y="5791320"/>
            <a:ext cx="63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6062f"/>
                </a:solidFill>
                <a:latin typeface="Tahoma"/>
              </a:rPr>
              <a:t>Важна не сама стрессовая ситуация, а то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6062f"/>
                </a:solidFill>
                <a:latin typeface="Tahoma"/>
              </a:rPr>
              <a:t>как мы её оцениваем и как на неё реагируем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08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7391520" y="1295280"/>
          <a:ext cx="860400" cy="84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1295280"/>
                    <a:ext cx="860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228600"/>
            <a:ext cx="79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Почему при стрессовых реакциях повышается артериальное давление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6062f"/>
                </a:solidFill>
                <a:latin typeface="Arial"/>
              </a:rPr>
              <a:t>(факторы, способствующие развитию гипертонии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0120" y="3886200"/>
            <a:ext cx="0" cy="457200"/>
          </a:xfrm>
          <a:prstGeom prst="line">
            <a:avLst/>
          </a:prstGeom>
          <a:ln w="381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24000" y="1413000"/>
            <a:ext cx="8533800" cy="4266720"/>
            <a:chOff x="324000" y="1413000"/>
            <a:chExt cx="8533800" cy="4266720"/>
          </a:xfrm>
        </p:grpSpPr>
        <p:sp>
          <p:nvSpPr>
            <p:cNvPr id="228" name=""/>
            <p:cNvSpPr/>
            <p:nvPr/>
          </p:nvSpPr>
          <p:spPr>
            <a:xfrm>
              <a:off x="1305360" y="2022480"/>
              <a:ext cx="0" cy="31237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13880" y="2022480"/>
              <a:ext cx="0" cy="2209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6800" y="2022480"/>
              <a:ext cx="0" cy="22093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1280" y="5146560"/>
              <a:ext cx="800568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606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6062f"/>
                  </a:solidFill>
                  <a:latin typeface="Tahoma"/>
                </a:rPr>
                <a:t>Повышение АД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9800" y="2860560"/>
              <a:ext cx="1812240" cy="456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Переедание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7920" y="4232160"/>
              <a:ext cx="158580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Алкоголь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00" y="3394080"/>
              <a:ext cx="2492280" cy="685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Чувствительность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к соли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24440" y="3012840"/>
              <a:ext cx="4229280" cy="761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Повышенная активность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симпатоадреналовой системы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59400" y="1413000"/>
              <a:ext cx="3398400" cy="685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Психоэмоциональные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нагрузки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93560" y="1413000"/>
              <a:ext cx="181224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Личностные 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особенности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5680" y="1413000"/>
              <a:ext cx="203904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Генетические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факторы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34200" y="4232160"/>
              <a:ext cx="339840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Избыточная масса тела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680" y="2022480"/>
              <a:ext cx="0" cy="13712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64720" y="1717560"/>
              <a:ext cx="52848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06160" y="1717560"/>
              <a:ext cx="45288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79720" y="2022480"/>
              <a:ext cx="0" cy="10663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74040" y="2098440"/>
              <a:ext cx="0" cy="9903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55320" y="3774960"/>
              <a:ext cx="0" cy="4568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4720" y="2022480"/>
              <a:ext cx="1585800" cy="9900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54080" y="3394080"/>
              <a:ext cx="30168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55760" y="3394080"/>
              <a:ext cx="0" cy="17521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17960" y="4765680"/>
              <a:ext cx="0" cy="3805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96400" y="4765680"/>
              <a:ext cx="0" cy="3805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815920" y="3622680"/>
              <a:ext cx="12078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640480" y="6521400"/>
            <a:ext cx="35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(Адаптировано из B. Folkow, 1995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304920"/>
          <a:ext cx="8604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0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82480" y="533520"/>
            <a:ext cx="79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Что такое стрессор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5320" y="990720"/>
            <a:ext cx="786492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СТРЕССОР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Tahoma"/>
              </a:rPr>
              <a:t>—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это  фактор, вызывающий стрессовую реакцию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062f"/>
                </a:solidFill>
                <a:latin typeface="Tahoma"/>
              </a:rPr>
              <a:t>1. Управляемые стрессоры </a:t>
            </a:r>
            <a:r>
              <a:rPr b="1" lang="en-US" sz="1600" spc="-1" strike="noStrike">
                <a:solidFill>
                  <a:srgbClr val="19b341"/>
                </a:solidFill>
                <a:latin typeface="Tahoma"/>
              </a:rPr>
              <a:t>ЗАВИСЯТ ОТ НАС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Чаще всего это особенности межличностного отношения,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стереотипы поведения, неумение управлять эмоциями, конфликтами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062f"/>
                </a:solidFill>
                <a:latin typeface="Tahoma"/>
              </a:rPr>
              <a:t>2. Неуправляемые стрессоры </a:t>
            </a:r>
            <a:r>
              <a:rPr b="1" lang="en-US" sz="1600" spc="-1" strike="noStrike">
                <a:solidFill>
                  <a:srgbClr val="19b341"/>
                </a:solidFill>
                <a:latin typeface="Tahoma"/>
              </a:rPr>
              <a:t>НЕПОДВЛАСТНЫ НАМ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Ситуации, события, обстоятельства,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которые не могут быть нами изменены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062f"/>
                </a:solidFill>
                <a:latin typeface="Tahoma"/>
              </a:rPr>
              <a:t>3. Факторы, которые вызывают стрессовую реакцию,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062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19b341"/>
                </a:solidFill>
                <a:latin typeface="Tahoma"/>
              </a:rPr>
              <a:t>не являются стрессорами по сути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События, явления, люди, которые вызывают стрессовую реакцию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как результат субъективного отношения и оценки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062f"/>
                </a:solidFill>
                <a:latin typeface="Tahoma"/>
              </a:rPr>
              <a:t>                          </a:t>
            </a:r>
            <a:r>
              <a:rPr b="1" lang="en-US" sz="1600" spc="-1" strike="noStrike">
                <a:solidFill>
                  <a:srgbClr val="c6062f"/>
                </a:solidFill>
                <a:latin typeface="Tahoma"/>
              </a:rPr>
              <a:t>ВАЖНЕЙШЕЕ </a:t>
            </a:r>
            <a:r>
              <a:rPr b="1" lang="en-US" sz="1600" spc="-1" strike="noStrike">
                <a:solidFill>
                  <a:srgbClr val="c6062f"/>
                </a:solidFill>
                <a:latin typeface="Tahoma"/>
                <a:ea typeface="Tahoma"/>
              </a:rPr>
              <a:t>—</a:t>
            </a:r>
            <a:r>
              <a:rPr b="1" lang="en-US" sz="1600" spc="-1" strike="noStrike">
                <a:solidFill>
                  <a:srgbClr val="c6062f"/>
                </a:solidFill>
                <a:latin typeface="Tahoma"/>
              </a:rPr>
              <a:t> отличить одно от другого!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«Боже, даруй мне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                  </a:t>
            </a: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смирение принять то, что я не могу изменить,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                           </a:t>
            </a: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мужество </a:t>
            </a:r>
            <a:r>
              <a:rPr b="1" i="1" lang="en-US" sz="1600" spc="-1" strike="noStrike">
                <a:solidFill>
                  <a:srgbClr val="19b341"/>
                </a:solidFill>
                <a:latin typeface="Tahoma"/>
                <a:ea typeface="Tahoma"/>
              </a:rPr>
              <a:t>—</a:t>
            </a: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 изменить то, что могу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                                             </a:t>
            </a: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и мудрость, чтобы отличить одно от другого…»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1" i="1" lang="en-US" sz="1600" spc="-1" strike="noStrike">
                <a:solidFill>
                  <a:srgbClr val="19b341"/>
                </a:solidFill>
                <a:latin typeface="Tahoma"/>
              </a:rPr>
              <a:t>(Восточная молитва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153324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533520" y="228600"/>
          <a:ext cx="1143000" cy="89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"/>
                    <a:ext cx="11430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04920" y="0"/>
          <a:ext cx="190476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19047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609480" y="1600200"/>
            <a:ext cx="424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Что поможе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преодолеть стресс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7600" y="990720"/>
            <a:ext cx="1807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304920"/>
            <a:ext cx="4572000" cy="1828800"/>
          </a:xfrm>
          <a:prstGeom prst="irregularSeal1">
            <a:avLst/>
          </a:prstGeom>
          <a:solidFill>
            <a:srgbClr val="cfdbfd"/>
          </a:solidFill>
          <a:ln w="38160">
            <a:solidFill>
              <a:srgbClr val="c606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Перегрузки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на работ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1080" y="609480"/>
            <a:ext cx="22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062f"/>
                </a:solidFill>
                <a:latin typeface="Tahoma"/>
              </a:rPr>
              <a:t>СТРЕССОР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95800">
            <a:off x="2590920" y="838080"/>
            <a:ext cx="1600200" cy="4860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6062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5120" y="2743200"/>
            <a:ext cx="695304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6062f"/>
                </a:solidFill>
                <a:latin typeface="Tahoma"/>
              </a:rPr>
              <a:t>Развитие  уверенности в себе  и умения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управлять временем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планировать дела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работать в коллективе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не брать всю работу на себя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считая, что другие сделают её хуже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не делать несколько дел одновременно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рационально распределять ресурсы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управлять конфликтам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38096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9480" y="1600200"/>
            <a:ext cx="424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Что поможе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преодолеть стресс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600" y="990720"/>
            <a:ext cx="1807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0"/>
            <a:ext cx="4647960" cy="2743200"/>
          </a:xfrm>
          <a:prstGeom prst="irregularSeal1">
            <a:avLst/>
          </a:prstGeom>
          <a:solidFill>
            <a:srgbClr val="cfdbfd"/>
          </a:solidFill>
          <a:ln w="38160">
            <a:solidFill>
              <a:srgbClr val="c606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Загруженность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домашними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делами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1080" y="609480"/>
            <a:ext cx="22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062f"/>
                </a:solidFill>
                <a:latin typeface="Tahoma"/>
              </a:rPr>
              <a:t>СТРЕССОР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95800">
            <a:off x="2590920" y="838080"/>
            <a:ext cx="1600200" cy="4860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6062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94040" y="2743200"/>
            <a:ext cx="69818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6062f"/>
                </a:solidFill>
                <a:latin typeface="Tahoma"/>
              </a:rPr>
              <a:t>Развитие  умения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всё делать вовремя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не оставляя мелкие дела на «потом»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распределять обязанности в семье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планировать домашнюю работу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ставить конкретные, достижимые цели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научиться «поощрять себя»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за их выполнение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отдыхать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705720" y="5372280"/>
            <a:ext cx="18288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1397160" cy="1312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09480" y="1600200"/>
            <a:ext cx="424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Что поможе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преодолеть стресс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7600" y="990720"/>
            <a:ext cx="1807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91120" y="304920"/>
            <a:ext cx="4572000" cy="1828800"/>
          </a:xfrm>
          <a:prstGeom prst="irregularSeal1">
            <a:avLst/>
          </a:prstGeom>
          <a:solidFill>
            <a:srgbClr val="cfdbfd"/>
          </a:solidFill>
          <a:ln w="38160">
            <a:solidFill>
              <a:srgbClr val="c606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Конфликт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с начальство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1080" y="609480"/>
            <a:ext cx="22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062f"/>
                </a:solidFill>
                <a:latin typeface="Tahoma"/>
              </a:rPr>
              <a:t>СТРЕССОР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95800">
            <a:off x="2590920" y="838080"/>
            <a:ext cx="1600200" cy="4860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6062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2743200"/>
            <a:ext cx="762012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6062f"/>
                </a:solidFill>
                <a:latin typeface="Tahoma"/>
              </a:rPr>
              <a:t>Развитие </a:t>
            </a:r>
            <a:r>
              <a:rPr b="0" lang="en-US" sz="2400" spc="-1" strike="noStrike">
                <a:solidFill>
                  <a:srgbClr val="c6062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навыков общения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уверенности </a:t>
            </a:r>
            <a:r>
              <a:rPr b="1" i="1" lang="en-US" sz="2400" spc="-1" strike="noStrike">
                <a:solidFill>
                  <a:srgbClr val="19b341"/>
                </a:solidFill>
                <a:latin typeface="Tahoma"/>
              </a:rPr>
              <a:t>(но не самоуверенности!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профессиональной компетентности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трудолюбия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умения планировать дела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умения рационально распределять ресурсы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6062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9b341"/>
                </a:solidFill>
                <a:latin typeface="Tahoma"/>
              </a:rPr>
              <a:t>умения управлять конфликтами и пр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00200" y="1523880"/>
          <a:ext cx="69343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934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57200" y="53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57200" y="6476760"/>
            <a:ext cx="8457840" cy="75960"/>
            <a:chOff x="457200" y="6476760"/>
            <a:chExt cx="8457840" cy="75960"/>
          </a:xfrm>
        </p:grpSpPr>
        <p:grpSp>
          <p:nvGrpSpPr>
            <p:cNvPr id="288" name=""/>
            <p:cNvGrpSpPr/>
            <p:nvPr/>
          </p:nvGrpSpPr>
          <p:grpSpPr>
            <a:xfrm>
              <a:off x="463680" y="6476760"/>
              <a:ext cx="8443440" cy="75960"/>
              <a:chOff x="463680" y="6476760"/>
              <a:chExt cx="8443440" cy="759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463680" y="6522480"/>
                <a:ext cx="2814480" cy="30240"/>
                <a:chOff x="463680" y="6522480"/>
                <a:chExt cx="2814480" cy="3024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560160" y="6522480"/>
                  <a:ext cx="2621160" cy="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463680" y="6522480"/>
                  <a:ext cx="2814480" cy="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278520" y="6537600"/>
                <a:ext cx="5628600" cy="15120"/>
                <a:chOff x="3278520" y="6537600"/>
                <a:chExt cx="5628600" cy="15120"/>
              </a:xfrm>
            </p:grpSpPr>
            <p:sp>
              <p:nvSpPr>
                <p:cNvPr id="293" name=""/>
                <p:cNvSpPr/>
                <p:nvPr/>
              </p:nvSpPr>
              <p:spPr>
                <a:xfrm flipV="1">
                  <a:off x="3374640" y="6537600"/>
                  <a:ext cx="543636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3278520" y="6537600"/>
                  <a:ext cx="562860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278520" y="6522480"/>
                <a:ext cx="2814480" cy="15120"/>
                <a:chOff x="3278520" y="6522480"/>
                <a:chExt cx="2814480" cy="1512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3374640" y="6522480"/>
                  <a:ext cx="262152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3278520" y="6522480"/>
                  <a:ext cx="281448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6093360" y="6522480"/>
                <a:ext cx="2813760" cy="15120"/>
                <a:chOff x="6093360" y="6522480"/>
                <a:chExt cx="2813760" cy="1512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6189480" y="6522480"/>
                  <a:ext cx="262152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6093360" y="6522480"/>
                  <a:ext cx="281376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63680" y="6507360"/>
                <a:ext cx="2814480" cy="15120"/>
                <a:chOff x="463680" y="6507360"/>
                <a:chExt cx="2814480" cy="15120"/>
              </a:xfrm>
            </p:grpSpPr>
            <p:sp>
              <p:nvSpPr>
                <p:cNvPr id="302" name=""/>
                <p:cNvSpPr/>
                <p:nvPr/>
              </p:nvSpPr>
              <p:spPr>
                <a:xfrm flipV="1">
                  <a:off x="560160" y="6507360"/>
                  <a:ext cx="262116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463680" y="6507360"/>
                  <a:ext cx="281448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278520" y="6507360"/>
                <a:ext cx="2814480" cy="15120"/>
                <a:chOff x="3278520" y="6507360"/>
                <a:chExt cx="2814480" cy="15120"/>
              </a:xfrm>
            </p:grpSpPr>
            <p:sp>
              <p:nvSpPr>
                <p:cNvPr id="305" name=""/>
                <p:cNvSpPr/>
                <p:nvPr/>
              </p:nvSpPr>
              <p:spPr>
                <a:xfrm flipV="1">
                  <a:off x="3374640" y="6507360"/>
                  <a:ext cx="262152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3278520" y="6507360"/>
                  <a:ext cx="281448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093360" y="6507360"/>
                <a:ext cx="2813760" cy="15120"/>
                <a:chOff x="6093360" y="6507360"/>
                <a:chExt cx="2813760" cy="15120"/>
              </a:xfrm>
            </p:grpSpPr>
            <p:sp>
              <p:nvSpPr>
                <p:cNvPr id="308" name=""/>
                <p:cNvSpPr/>
                <p:nvPr/>
              </p:nvSpPr>
              <p:spPr>
                <a:xfrm flipV="1">
                  <a:off x="6189480" y="6507360"/>
                  <a:ext cx="262152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93360" y="6507360"/>
                  <a:ext cx="281376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63680" y="6491880"/>
                <a:ext cx="2814480" cy="15120"/>
                <a:chOff x="463680" y="6491880"/>
                <a:chExt cx="2814480" cy="1512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560160" y="6491880"/>
                  <a:ext cx="262116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463680" y="6491880"/>
                  <a:ext cx="281448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278520" y="6491880"/>
                <a:ext cx="2814480" cy="15120"/>
                <a:chOff x="3278520" y="6491880"/>
                <a:chExt cx="2814480" cy="15120"/>
              </a:xfrm>
            </p:grpSpPr>
            <p:sp>
              <p:nvSpPr>
                <p:cNvPr id="314" name=""/>
                <p:cNvSpPr/>
                <p:nvPr/>
              </p:nvSpPr>
              <p:spPr>
                <a:xfrm flipV="1">
                  <a:off x="3374640" y="6491880"/>
                  <a:ext cx="262152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3278520" y="6491880"/>
                  <a:ext cx="281448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093360" y="6491880"/>
                <a:ext cx="2813760" cy="15120"/>
                <a:chOff x="6093360" y="6491880"/>
                <a:chExt cx="2813760" cy="1512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6189480" y="6491880"/>
                  <a:ext cx="262152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6093360" y="6491880"/>
                  <a:ext cx="281376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63680" y="6476760"/>
                <a:ext cx="2814480" cy="15120"/>
                <a:chOff x="463680" y="6476760"/>
                <a:chExt cx="2814480" cy="15120"/>
              </a:xfrm>
            </p:grpSpPr>
            <p:sp>
              <p:nvSpPr>
                <p:cNvPr id="320" name=""/>
                <p:cNvSpPr/>
                <p:nvPr/>
              </p:nvSpPr>
              <p:spPr>
                <a:xfrm flipV="1">
                  <a:off x="560160" y="6476760"/>
                  <a:ext cx="262116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463680" y="6476760"/>
                  <a:ext cx="281448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278520" y="6476760"/>
                <a:ext cx="2814480" cy="15120"/>
                <a:chOff x="3278520" y="6476760"/>
                <a:chExt cx="2814480" cy="1512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3374640" y="6476760"/>
                  <a:ext cx="262152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3278520" y="6476760"/>
                  <a:ext cx="281448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093360" y="6476760"/>
                <a:ext cx="2813760" cy="15120"/>
                <a:chOff x="6093360" y="6476760"/>
                <a:chExt cx="2813760" cy="1512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6189480" y="6476760"/>
                  <a:ext cx="262152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6093360" y="6476760"/>
                  <a:ext cx="2813760" cy="1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" name=""/>
            <p:cNvSpPr/>
            <p:nvPr/>
          </p:nvSpPr>
          <p:spPr>
            <a:xfrm flipV="1">
              <a:off x="457200" y="6476400"/>
              <a:ext cx="8457840" cy="75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Как определить уровень стресса?</a:t>
            </a:r>
            <a:br>
              <a:rPr sz="2400"/>
            </a:br>
            <a:r>
              <a:rPr b="0" i="1" lang="ru-RU" sz="2400" spc="-1" strike="noStrike">
                <a:solidFill>
                  <a:srgbClr val="c6062f"/>
                </a:solidFill>
                <a:latin typeface="Arial"/>
              </a:rPr>
              <a:t>Тест Ридера (</a:t>
            </a:r>
            <a:r>
              <a:rPr b="0" i="1" lang="en-US" sz="2400" spc="-1" strike="noStrike">
                <a:solidFill>
                  <a:srgbClr val="c6062f"/>
                </a:solidFill>
                <a:latin typeface="Arial"/>
              </a:rPr>
              <a:t>L. Reeder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762120"/>
            <a:ext cx="92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Оцените, насколько Вы согласны с перечисленными утверждениями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Суммируйте баллы и посчитайте средний балл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1523880"/>
          <a:ext cx="8039160" cy="3409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523880"/>
                    <a:ext cx="803916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83920" y="4967280"/>
            <a:ext cx="56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Оцените свой уровень стресса по среднему баллу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79440" y="5295960"/>
            <a:ext cx="7026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Уровень стресса:                   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</a:rPr>
              <a:t>высокий              средний                   низкий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Для мужчин                                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</a:rPr>
              <a:t>2                      2,01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</a:rPr>
              <a:t>3                      3,01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Для женщин                             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</a:rPr>
              <a:t>1,82                 1,83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</a:rPr>
              <a:t>2,82                   2,83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c6062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02:47Z</dcterms:created>
  <dc:creator>User</dc:creator>
  <dc:description/>
  <dc:language>en-US</dc:language>
  <cp:lastModifiedBy>leva</cp:lastModifiedBy>
  <dcterms:modified xsi:type="dcterms:W3CDTF">2007-11-26T15:58:36Z</dcterms:modified>
  <cp:revision>36</cp:revision>
  <dc:subject/>
  <dc:title>Презентация PowerPoint</dc:title>
</cp:coreProperties>
</file>