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10D-A17E-44D1-A250-625EA5A5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18C-2D6A-4815-8770-BF492823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409-ECCA-4B7E-8E36-768CE6B7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863-E649-4785-8797-EF88979B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45F6-702C-45A8-9E5B-F8890899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B5A7-1301-4E66-86DC-0CBDE911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EEB3-C83D-436C-ABDE-8DA07EA5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304B-AE42-4A36-A0AE-C80602A3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FA92-F671-4777-BA8A-EC3E85C7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8CE-EDFA-4447-94DE-35D17514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BBBC-B249-47AA-BA74-E22E4AE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E54-003A-4E87-B00B-8984C00F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4DBC-D0A4-404D-9D25-3C67195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FB3B-B739-41EF-81CC-90246DD0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E8D3-7830-496C-82C5-25D35A67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7B1E-14A0-49D3-B8C3-D9EF39B3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BACC-7033-4EDA-80F0-8A17203E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97C-BF19-4908-BEFB-B057A74A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A3C-0BDB-4233-8F1E-428B357D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768A-0936-4A59-87F6-EE80E9DD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B24-4BDB-472A-81FB-173D3748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3B7-65DC-4F70-9EF3-D17AF7B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AE6-6511-4C06-BCBC-AF10933E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D9A-70A6-4708-943B-C43D0277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C00B-1A5B-4900-B4A9-B14A874397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9BB7-17D4-4AB8-8749-D63038C735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2133720" y="2057400"/>
          <a:ext cx="4894200" cy="34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057400"/>
                    <a:ext cx="489420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0" y="4876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175248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Цель лечения артериальной гипертони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гда начинать и как долго лечить     гипертонию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нципы лекарственной терапи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овременные лекарства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  <a:ea typeface="Arial"/>
              </a:rPr>
              <a:t>—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показания и противопоказания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то влияет на эффективность лечения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верженность лечению. От кого зависит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Ещё раз о кризе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10824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1805760" y="252360"/>
            <a:ext cx="553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Занятие 7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Медикаментозное лечение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артериальной гипертонии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26920" y="1797120"/>
            <a:ext cx="7925040" cy="5060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80600" y="533520"/>
            <a:ext cx="63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Что  определяет эффективность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лечения гипертонии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916280"/>
            <a:ext cx="889308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облюдение рекомендаций врача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амоконтроль  уровня АД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мение устранять  факторы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провоцирующие повышение АД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Непрерывность лечения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очетание приёма медикаментов </a:t>
            </a:r>
            <a:br>
              <a:rPr sz="2400"/>
            </a:b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 с  немедикаментозными средствам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мение оказать  доврачебную самопомощь при кризе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облюдение предосторожностей при приём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медикаментов, в  частности отказ от приёма алкоголя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238880" y="28954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6062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876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447920"/>
            <a:ext cx="42674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Снизить повышенны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уровни АД  до целевых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310824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954080" y="252360"/>
            <a:ext cx="52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Цели лечения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артериальной гипертонии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1972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6062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362320"/>
            <a:ext cx="663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Повысить качество жизни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уменьшить изменения в органах-мишенях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1320" y="3352680"/>
            <a:ext cx="35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6062f"/>
                </a:solidFill>
                <a:latin typeface="Arial"/>
              </a:rPr>
              <a:t>Конечная цель </a:t>
            </a:r>
            <a:r>
              <a:rPr b="1" i="1" lang="en-US" sz="2400" spc="-1" strike="noStrike">
                <a:solidFill>
                  <a:srgbClr val="c6062f"/>
                </a:solidFill>
                <a:latin typeface="Arial"/>
                <a:ea typeface="Arial"/>
              </a:rPr>
              <a:t>—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Arial"/>
              </a:rPr>
              <a:t>уменьшить риск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Arial"/>
              </a:rPr>
              <a:t>развития осложнений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34040" y="4495680"/>
            <a:ext cx="6480720" cy="20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062f"/>
                </a:solidFill>
                <a:latin typeface="Tahoma"/>
              </a:rPr>
              <a:t>Целевые уровни АД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Все больные с АГ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1" lang="ru-RU" sz="2000" spc="-1" strike="noStrike">
                <a:solidFill>
                  <a:srgbClr val="c6062f"/>
                </a:solidFill>
                <a:latin typeface="Tahoma"/>
              </a:rPr>
              <a:t>ниже 140/90 мм рт.ст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Гипертония + диабет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1" lang="ru-RU" sz="2000" spc="-1" strike="noStrike">
                <a:solidFill>
                  <a:srgbClr val="c6062f"/>
                </a:solidFill>
                <a:latin typeface="Tahoma"/>
              </a:rPr>
              <a:t>ниже 130/85 мм рт.ст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Гипертония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хроническая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почечная недостаточность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c6062f"/>
                </a:solidFill>
                <a:latin typeface="Tahoma"/>
              </a:rPr>
              <a:t>ниже 125/75 мм рт.ст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162920" y="762120"/>
          <a:ext cx="167328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762120"/>
                    <a:ext cx="16732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533520" y="4648320"/>
            <a:ext cx="990360" cy="1850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18480" y="457200"/>
            <a:ext cx="600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Когда начинать и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Tahoma"/>
              </a:rPr>
              <a:t>как долго лечить гипертонию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447920"/>
            <a:ext cx="815364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Arial"/>
              </a:rPr>
              <a:t>«Лучше пользоваться лекарствами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Arial"/>
              </a:rPr>
              <a:t>в начале заболевания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Arial"/>
              </a:rPr>
              <a:t>чем в последний момент»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(П. Сир, цит. по В.И. Бакшееву, Н.М. Коломоец, 2002)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Достижение целевых уровней АД должно быть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6062f"/>
                </a:solidFill>
                <a:latin typeface="Arial"/>
              </a:rPr>
              <a:t>постепенным и  хорошо переносимым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b913"/>
                </a:solidFill>
                <a:latin typeface="Arial"/>
              </a:rPr>
              <a:t>Чем выше суммарный риск, тем  большее значение  имеет достижение целевого уровня АД!</a:t>
            </a:r>
            <a:r>
              <a:rPr b="1" lang="ru-RU" sz="2400" spc="-1" strike="noStrike">
                <a:solidFill>
                  <a:srgbClr val="c6062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426708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315200" y="380880"/>
          <a:ext cx="12924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380880"/>
                    <a:ext cx="12924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1685880" cy="14144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209680" y="1523880"/>
          <a:ext cx="655344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3880"/>
                    <a:ext cx="6553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051920" y="304920"/>
            <a:ext cx="73512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Принципы медикаментозного лечения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Современные препараты,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снижающие уровень АД при гипертонии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560" y="1752480"/>
            <a:ext cx="78494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Предпочтение отдаётс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препаратам  длительного до 24 ч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действия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Лечение начинается с одного препарата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при неэффективности оптимальным считается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очетание нескольких препаратов в малых дозах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Arial"/>
              </a:rPr>
              <a:t>Основные группы препаратов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ета-адреноблокаторы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диуретики (мочегонные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антагонисты кальция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нгибиторы АПФ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локаторы рецепторов АТ-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альфа-адреноблокаторы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епараты центрального действия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46483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66760" y="4648320"/>
            <a:ext cx="53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начинать при неосложнённом течении АГ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467480" y="5257800"/>
            <a:ext cx="1284480" cy="1281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8200" y="5335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Важно  запомнить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990720"/>
            <a:ext cx="8076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Лечение гипертонии необходимо проводит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постоянно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В период индивидуального подбора препаратов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увеличение доз и/или смена препарата проводится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тупенчато с интервалом около 4 нед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При адекватном контроле в течение по крайней мере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коло года возможно уменьшение доз и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количества препаратов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Лечение быстрее достигает цели, если удаётся уменьшит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опутствующие факторы риска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емедикаментозными средствами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1066680"/>
            <a:ext cx="1447920" cy="99072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100000">
                <a:srgbClr val="c60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19920" y="6521400"/>
            <a:ext cx="39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Кобалава Ж.Д., Котовская Ю.В., 2002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04920" y="4857840"/>
            <a:ext cx="2286000" cy="1716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6520" y="685800"/>
            <a:ext cx="64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Arial"/>
              </a:rPr>
              <a:t>Выбор препарата или препаратов и доз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062f"/>
                </a:solidFill>
                <a:latin typeface="Arial"/>
              </a:rPr>
              <a:t>определяется  ВРАЧОМ индивидуально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5120" y="1639800"/>
            <a:ext cx="77626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b913"/>
                </a:solidFill>
                <a:latin typeface="Arial"/>
              </a:rPr>
              <a:t>Пациент должен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b913"/>
                </a:solidFill>
                <a:latin typeface="Arial"/>
              </a:rPr>
              <a:t>строго соблюдать рекомендации врача и знать: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возможные побочные действия медикаментов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возможные  сочетания при приёме лекарств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есовместимые препараты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трого выполнять самостоятельный контроль АД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облюдать график назначенных посещений врача;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своевременно проходить назначенные дополнительные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и периодические обследования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уметь помочь себе при кризе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выполнять все немедикаментозные рекомендации врача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162920" y="533520"/>
          <a:ext cx="152064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533520"/>
                    <a:ext cx="152064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694080" y="60948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Возможные побочные действия лекарств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9760" y="1523880"/>
            <a:ext cx="862380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062f"/>
                </a:solidFill>
                <a:latin typeface="Arial"/>
              </a:rPr>
              <a:t>Диуретики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снижение уровня калия в крови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нарушения углеводного и жирового обмена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062f"/>
                </a:solidFill>
                <a:latin typeface="Arial"/>
              </a:rPr>
              <a:t>Бета-блокаторы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урежение пульса, обострение хронического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бронхита, перемежающейся хромоты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062f"/>
                </a:solidFill>
                <a:latin typeface="Arial"/>
              </a:rPr>
              <a:t>Антагонисты кальция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головная боль, отёки голеней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покраснение кожных покровов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062f"/>
                </a:solidFill>
                <a:latin typeface="Arial"/>
              </a:rPr>
              <a:t>Ингибиторы АПФ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кашель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062f"/>
                </a:solidFill>
                <a:latin typeface="Arial"/>
              </a:rPr>
              <a:t>Блокаторы альфа-рецепторов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  <a:ea typeface="Arial"/>
              </a:rPr>
              <a:t>—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резкое снижение АД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собенно в вертикальном положении, слабость, головокружение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Отмечается зависимость от  дозы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6960" y="5867280"/>
            <a:ext cx="83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2b913"/>
                </a:solidFill>
                <a:latin typeface="Arial"/>
              </a:rPr>
              <a:t>При появлении симптомов, подозрительных на побочное действие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2b913"/>
                </a:solidFill>
                <a:latin typeface="Arial"/>
              </a:rPr>
              <a:t>необходимо обратиться к врачу!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93720" y="609480"/>
            <a:ext cx="71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062f"/>
                </a:solidFill>
                <a:latin typeface="Arial"/>
              </a:rPr>
              <a:t>Эффективные комбинации препаратов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2640" y="1484280"/>
            <a:ext cx="805356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Диуретик  и бета-адреноблокатор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Диуретик и ингибитор АПФ (или антагонист 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AII)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Антагонист кальция </a:t>
            </a:r>
            <a:r>
              <a:rPr b="0" i="1" lang="ru-RU" sz="2000" spc="-1" strike="noStrike">
                <a:solidFill>
                  <a:srgbClr val="40458c"/>
                </a:solidFill>
                <a:latin typeface="Arial"/>
              </a:rPr>
              <a:t>(дигидропиридин)</a:t>
            </a: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 и бета-адреноблокатор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Антагонист кальция и ингибитор АПФ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Бета-адреноблокатор и альфа-адреноблокатор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Препарат центрального действия и диуретик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80880" y="4495680"/>
          <a:ext cx="2133720" cy="20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495680"/>
                    <a:ext cx="2133720" cy="20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059120" cy="997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086600" y="2590920"/>
            <a:ext cx="1295280" cy="1249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70160" y="4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533520"/>
            <a:ext cx="608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6062f"/>
                </a:solidFill>
                <a:latin typeface="Tahoma"/>
              </a:rPr>
              <a:t>Что  такое немедикаментозное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6062f"/>
                </a:solidFill>
                <a:latin typeface="Tahoma"/>
              </a:rPr>
              <a:t>лечение гипертонии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320" y="1676520"/>
            <a:ext cx="62319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40458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Коррекция питания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458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Потребление соли не более 5 г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ут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458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меньшение потребления алкоголя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458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Отказ от курения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458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величение  физической активности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458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Снижение избыточной массы тела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40458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40458c"/>
                </a:solidFill>
                <a:latin typeface="Arial"/>
              </a:rPr>
              <a:t>Управление стрессом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82560" y="5181480"/>
            <a:ext cx="632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b913"/>
                </a:solidFill>
                <a:latin typeface="Tahoma"/>
              </a:rPr>
              <a:t>Немедикаментозные методы </a:t>
            </a:r>
            <a:r>
              <a:rPr b="1" i="1" lang="ru-RU" sz="2000" spc="-1" strike="noStrike">
                <a:solidFill>
                  <a:srgbClr val="42b913"/>
                </a:solidFill>
                <a:latin typeface="Tahoma"/>
                <a:ea typeface="Tahoma"/>
              </a:rPr>
              <a:t>—</a:t>
            </a:r>
            <a:r>
              <a:rPr b="1" i="1" lang="ru-RU" sz="2000" spc="-1" strike="noStrike">
                <a:solidFill>
                  <a:srgbClr val="42b91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b913"/>
                </a:solidFill>
                <a:latin typeface="Tahoma"/>
              </a:rPr>
              <a:t>не альтернатива лекарственной терапии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b913"/>
                </a:solidFill>
                <a:latin typeface="Tahoma"/>
              </a:rPr>
              <a:t>Они способствуют снижению уровня АД,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2b913"/>
                </a:solidFill>
                <a:latin typeface="Tahoma"/>
              </a:rPr>
              <a:t>повышают эффективность приёма лекарств.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 advTm="3000"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09:02:47Z</dcterms:created>
  <dc:creator>User</dc:creator>
  <dc:description/>
  <dc:language>en-US</dc:language>
  <cp:lastModifiedBy>leva</cp:lastModifiedBy>
  <dcterms:modified xsi:type="dcterms:W3CDTF">2007-11-26T16:02:59Z</dcterms:modified>
  <cp:revision>31</cp:revision>
  <dc:subject/>
  <dc:title>Презентация PowerPoint</dc:title>
</cp:coreProperties>
</file>